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28.jpeg" ContentType="image/jpeg"/>
  <Override PartName="/ppt/media/image7.jpeg" ContentType="image/jpeg"/>
  <Override PartName="/ppt/media/image2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2043-3193-4BD5-A391-5439560C6E0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stra no Sen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tó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h30 – 2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fone 312-6260 (Sra. Euz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stra no Sen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tó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h30 – 2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fone 312-6260 (Sra. Euz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825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8440" y="4057200"/>
            <a:ext cx="825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9520" y="182844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8440" y="405720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9520" y="405720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2658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9880" y="1828440"/>
            <a:ext cx="2658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1680" y="1828440"/>
            <a:ext cx="2658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8440" y="4057200"/>
            <a:ext cx="2658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9880" y="4057200"/>
            <a:ext cx="2658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1680" y="4057200"/>
            <a:ext cx="2658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8440" y="1828440"/>
            <a:ext cx="8256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825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4029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9520" y="1828440"/>
            <a:ext cx="4029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4760" y="380880"/>
            <a:ext cx="5715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9520" y="1828440"/>
            <a:ext cx="4029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8440" y="405720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4029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9520" y="182844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9520" y="405720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9520" y="182844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8440" y="4057200"/>
            <a:ext cx="825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cid.castello.com.br/mundo.ht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8440" y="1828440"/>
            <a:ext cx="825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" name="" descr="Clique aqui para informações sobre o mund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16800" y="76320"/>
            <a:ext cx="960480" cy="960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827040" y="407880"/>
            <a:ext cx="22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CidCastello.com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07320" y="685800"/>
            <a:ext cx="21812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320" y="6248520"/>
            <a:ext cx="89154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30200" y="304560"/>
            <a:ext cx="0" cy="6476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7821720" y="609480"/>
            <a:ext cx="384120" cy="4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correios.com.br/" TargetMode="External"/><Relationship Id="rId3" Type="http://schemas.openxmlformats.org/officeDocument/2006/relationships/hyperlink" Target="http://www.correios.com.br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cid.castello.com.br/mundo.htm" TargetMode="External"/><Relationship Id="rId3" Type="http://schemas.openxmlformats.org/officeDocument/2006/relationships/image" Target="../media/image1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stado.com.br/" TargetMode="Externa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00"/>
                </a:solidFill>
                <a:latin typeface="Arial"/>
              </a:rPr>
              <a:t>Objetivos</a:t>
            </a:r>
            <a:endParaRPr b="1" i="1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5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Objetivos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8440" y="1630080"/>
            <a:ext cx="82566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zer proselitismo sobre a Interne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resentar fatos sobre a grande red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umentar o grau de entusiasmo de todos pela Interne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tivar o incremento de todos no uso da red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strar como fazer melhorar os contatos via Internet para vender mai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5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A Internet faz sucesso?...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5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-257040" y="-295200"/>
            <a:ext cx="9658080" cy="74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-181080" y="-257040"/>
            <a:ext cx="9506160" cy="73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-181080" y="-214200"/>
            <a:ext cx="9506160" cy="72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-185760" y="-181080"/>
            <a:ext cx="9515520" cy="722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190440" y="-252360"/>
            <a:ext cx="9524880" cy="73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1362240"/>
            <a:ext cx="8076960" cy="45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Internet ajuda a prender quadrilha no ABC paulista</a:t>
            </a:r>
            <a:br>
              <a:rPr sz="2100"/>
            </a:b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Um engenheiro usou a Internet para avisar que a empresa em que trabalha, de informática, estava sendo assaltada. V.A.O., 32 anos, estava no escritório, em São Caetano, no ABC paulista, onde</a:t>
            </a:r>
            <a:br>
              <a:rPr sz="2100"/>
            </a:b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mais 20 funcionários trabalhavam, quando uma quadrilha invadiu o local, pedindo que todos permanecessem no lugar. Usando um programa de bate-papo online, V. avisou seu cunhado do assalto. O cunhado dele estava nos Estados Unidos e mantinha contato com o engenheiro pelo programa de bate-papo online chamado ICQ. Ele telefonou para a casa do engenheiro que avisou a polícia. Todos foram presos. Várias viaturas da Polícia Militar local seguiram para a empresa, no bairro São José. Foram presos Daniel Alves da Silva, 19 anos,Robson da Silva Neves, 24, Iolando da Cruz, 26, e o adolescente S.A.M.G., 17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1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2120" y="1362240"/>
            <a:ext cx="8076960" cy="445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Reforma agrária: confirmação de inscrição via Internet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Os trabalhadores rurais sem terra podem acessar a Internet para acompanhar a sua situação no Programa de Reforma Agrária nos Correios. O interessado fez seu pré-cadastro nas agências. Para saber da confirmação, basta acessar o site da empresa na rede mundial de computadores, </a:t>
            </a:r>
            <a:r>
              <a:rPr b="0" lang="pt-BR" sz="2200" spc="-1" strike="noStrike" u="sng">
                <a:solidFill>
                  <a:srgbClr val="0066ff"/>
                </a:solidFill>
                <a:uFillTx/>
                <a:latin typeface="Arial"/>
                <a:ea typeface="Arial"/>
                <a:hlinkClick r:id="rId2"/>
              </a:rPr>
              <a:t>www.correios.com.</a:t>
            </a:r>
            <a:r>
              <a:rPr b="0" lang="pt-BR" sz="2200" spc="-1" strike="noStrike" u="sng">
                <a:solidFill>
                  <a:srgbClr val="0066ff"/>
                </a:solidFill>
                <a:uFillTx/>
                <a:latin typeface="Arial"/>
                <a:ea typeface="Arial"/>
                <a:hlinkClick r:id="rId3"/>
              </a:rPr>
              <a:t>b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. No País, 105.445 sem terra fizeram o cadastro. Em Mato Grosso do Sul, 8,490 fizeram o cadastro. Através das página dos Correios, eles poderão saber se o pré-cadastro foi processado com êxito ou se houve algum dado rejeitado por problemas de preenchimento ou inconsistência de dados. Também ficará sabendo se o Incra aceitou ou rejeitou o cadastro. </a:t>
            </a:r>
            <a:r>
              <a:rPr b="1" lang="pt-BR" sz="2200" spc="-1" strike="noStrike">
                <a:solidFill>
                  <a:srgbClr val="999999"/>
                </a:solidFill>
                <a:latin typeface="Arial"/>
                <a:ea typeface="Arial"/>
              </a:rPr>
              <a:t>Fonte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Campo Grande Ne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2001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1904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609480"/>
            <a:ext cx="8382240" cy="5791320"/>
          </a:xfrm>
          <a:prstGeom prst="rect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209680"/>
            <a:ext cx="8064720" cy="18288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cc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0" spc="-1" strike="noStrike">
                <a:solidFill>
                  <a:srgbClr val="ff3300"/>
                </a:solidFill>
                <a:latin typeface="Times New Roman"/>
              </a:rPr>
              <a:t>Boa tarde!</a:t>
            </a:r>
            <a:endParaRPr b="1" i="1" lang="en-US" sz="14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75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8440" y="417240"/>
            <a:ext cx="63086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Porque a Internet faz</a:t>
            </a:r>
            <a:br>
              <a:rPr sz="4400"/>
            </a:b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tanto sucesso?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8440" y="2313000"/>
            <a:ext cx="825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r ser um banco de informaçõ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r ser um meio de comunicação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r ser uma rede de serviço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r ser uma mídia para o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arket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r ser ferramenta para o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e-commer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5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68440" y="417240"/>
            <a:ext cx="63086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Porque a Internet faz</a:t>
            </a:r>
            <a:br>
              <a:rPr sz="3200"/>
            </a:b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tanto sucesso?</a:t>
            </a:r>
            <a:endParaRPr b="1" i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8440" y="2313000"/>
            <a:ext cx="825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Por ser um banco de informaçõ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r ser um meio de comunicação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Por ser uma rede de serviço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Por ser uma mídia para o market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Por ser ferramenta para o e-commer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b2b2b2"/>
                </a:solidFill>
                <a:latin typeface="Arial"/>
              </a:rPr>
              <a:t>Copyright © 2005</a:t>
            </a:r>
            <a:r>
              <a:rPr b="0" lang="pt-BR" sz="1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b2b2b2"/>
                </a:solidFill>
                <a:latin typeface="Arial"/>
              </a:rPr>
              <a:t>C&amp;Cia</a:t>
            </a:r>
            <a:r>
              <a:rPr b="0" lang="pt-BR" sz="1200" spc="-1" strike="noStrike">
                <a:solidFill>
                  <a:srgbClr val="b2b2b2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b2b2b2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Clique aqui para informações sobre o mundo">
            <a:hlinkClick r:id="rId2"/>
          </p:cNvPr>
          <p:cNvPicPr/>
          <p:nvPr/>
        </p:nvPicPr>
        <p:blipFill>
          <a:blip r:embed="rId3">
            <a:grayscl/>
          </a:blip>
          <a:stretch/>
        </p:blipFill>
        <p:spPr>
          <a:xfrm>
            <a:off x="7516800" y="76320"/>
            <a:ext cx="960480" cy="960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27040" y="407880"/>
            <a:ext cx="22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www.CidCastello.com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07320" y="685800"/>
            <a:ext cx="21812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320" y="6248520"/>
            <a:ext cx="89154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30200" y="304560"/>
            <a:ext cx="0" cy="64767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7821720" y="609480"/>
            <a:ext cx="384120" cy="4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A Internet é…</a:t>
            </a:r>
            <a:endParaRPr b="1" i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5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806400"/>
            <a:ext cx="8736120" cy="5214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59280" y="2278080"/>
            <a:ext cx="2016000" cy="287964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504000 h 2879640"/>
              <a:gd name="textAreaBottom" fmla="*/ 208800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rot="8867400">
            <a:off x="3419640" y="1698120"/>
            <a:ext cx="5688000" cy="1298880"/>
          </a:xfrm>
          <a:custGeom>
            <a:avLst/>
            <a:gdLst>
              <a:gd name="textAreaLeft" fmla="*/ 0 w 5688000"/>
              <a:gd name="textAreaRight" fmla="*/ 5688360 w 5688000"/>
              <a:gd name="textAreaTop" fmla="*/ 0 h 1298880"/>
              <a:gd name="textAreaBottom" fmla="*/ 1299240 h 129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1800" y="3571920"/>
            <a:ext cx="1225800" cy="1225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692360" y="4508280"/>
            <a:ext cx="1079280" cy="86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781440" y="4579560"/>
            <a:ext cx="72072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2492280"/>
            <a:ext cx="7308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9640" y="4873680"/>
            <a:ext cx="1366920" cy="1289160"/>
            <a:chOff x="539640" y="4873680"/>
            <a:chExt cx="1366920" cy="1289160"/>
          </a:xfrm>
        </p:grpSpPr>
        <p:sp>
          <p:nvSpPr>
            <p:cNvPr id="135" name=""/>
            <p:cNvSpPr/>
            <p:nvPr/>
          </p:nvSpPr>
          <p:spPr>
            <a:xfrm>
              <a:off x="828720" y="5084640"/>
              <a:ext cx="93492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187280" y="5518080"/>
              <a:ext cx="71928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900000" y="4873680"/>
              <a:ext cx="71928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539640" y="5445000"/>
              <a:ext cx="719280" cy="64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2556000" y="1415880"/>
            <a:ext cx="1366560" cy="1289160"/>
            <a:chOff x="2556000" y="1415880"/>
            <a:chExt cx="1366560" cy="1289160"/>
          </a:xfrm>
        </p:grpSpPr>
        <p:sp>
          <p:nvSpPr>
            <p:cNvPr id="140" name=""/>
            <p:cNvSpPr/>
            <p:nvPr/>
          </p:nvSpPr>
          <p:spPr>
            <a:xfrm>
              <a:off x="2773440" y="1700280"/>
              <a:ext cx="934920" cy="93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556000" y="1415880"/>
              <a:ext cx="1366560" cy="1289160"/>
              <a:chOff x="2556000" y="1415880"/>
              <a:chExt cx="1366560" cy="1289160"/>
            </a:xfrm>
          </p:grpSpPr>
          <p:pic>
            <p:nvPicPr>
              <p:cNvPr id="14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203640" y="2060640"/>
                <a:ext cx="718920" cy="64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916360" y="1415880"/>
                <a:ext cx="718920" cy="64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556000" y="1987560"/>
                <a:ext cx="718920" cy="64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5" name=""/>
          <p:cNvGrpSpPr/>
          <p:nvPr/>
        </p:nvGrpSpPr>
        <p:grpSpPr>
          <a:xfrm>
            <a:off x="4140360" y="4803840"/>
            <a:ext cx="1366560" cy="1289160"/>
            <a:chOff x="4140360" y="4803840"/>
            <a:chExt cx="1366560" cy="1289160"/>
          </a:xfrm>
        </p:grpSpPr>
        <p:sp>
          <p:nvSpPr>
            <p:cNvPr id="146" name=""/>
            <p:cNvSpPr/>
            <p:nvPr/>
          </p:nvSpPr>
          <p:spPr>
            <a:xfrm>
              <a:off x="4357800" y="5013360"/>
              <a:ext cx="934920" cy="93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7"/>
            <a:stretch/>
          </p:blipFill>
          <p:spPr>
            <a:xfrm>
              <a:off x="4788000" y="5448240"/>
              <a:ext cx="7189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8"/>
            <a:stretch/>
          </p:blipFill>
          <p:spPr>
            <a:xfrm>
              <a:off x="4500720" y="480384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9"/>
            <a:stretch/>
          </p:blipFill>
          <p:spPr>
            <a:xfrm>
              <a:off x="4140360" y="5375160"/>
              <a:ext cx="718920" cy="64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 flipH="1">
            <a:off x="5076360" y="4508640"/>
            <a:ext cx="136692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148428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16360" y="90792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492000" y="765000"/>
            <a:ext cx="79236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344880" y="4437000"/>
            <a:ext cx="226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SP de conteú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9632600">
            <a:off x="4802760" y="1412640"/>
            <a:ext cx="401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ackb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26920" y="692280"/>
            <a:ext cx="1079640" cy="933480"/>
            <a:chOff x="826920" y="692280"/>
            <a:chExt cx="1079640" cy="933480"/>
          </a:xfrm>
        </p:grpSpPr>
        <p:pic>
          <p:nvPicPr>
            <p:cNvPr id="157" name="" descr=""/>
            <p:cNvPicPr/>
            <p:nvPr/>
          </p:nvPicPr>
          <p:blipFill>
            <a:blip r:embed="rId10"/>
            <a:stretch/>
          </p:blipFill>
          <p:spPr>
            <a:xfrm>
              <a:off x="1187280" y="981000"/>
              <a:ext cx="719280" cy="6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826920" y="692280"/>
              <a:ext cx="93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uá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340000" y="260280"/>
            <a:ext cx="934920" cy="789120"/>
            <a:chOff x="2340000" y="260280"/>
            <a:chExt cx="934920" cy="789120"/>
          </a:xfrm>
        </p:grpSpPr>
        <p:pic>
          <p:nvPicPr>
            <p:cNvPr id="160" name="" descr=""/>
            <p:cNvPicPr/>
            <p:nvPr/>
          </p:nvPicPr>
          <p:blipFill>
            <a:blip r:embed="rId11"/>
            <a:stretch/>
          </p:blipFill>
          <p:spPr>
            <a:xfrm>
              <a:off x="2411280" y="404640"/>
              <a:ext cx="719280" cy="6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340000" y="260280"/>
              <a:ext cx="93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uá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924360" y="189000"/>
            <a:ext cx="1008000" cy="860400"/>
            <a:chOff x="3924360" y="189000"/>
            <a:chExt cx="1008000" cy="860400"/>
          </a:xfrm>
        </p:grpSpPr>
        <p:pic>
          <p:nvPicPr>
            <p:cNvPr id="163" name="" descr=""/>
            <p:cNvPicPr/>
            <p:nvPr/>
          </p:nvPicPr>
          <p:blipFill>
            <a:blip r:embed="rId12"/>
            <a:stretch/>
          </p:blipFill>
          <p:spPr>
            <a:xfrm>
              <a:off x="3924360" y="404640"/>
              <a:ext cx="718920" cy="6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3997440" y="189000"/>
              <a:ext cx="93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uá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012000" y="3774960"/>
            <a:ext cx="2447640" cy="874800"/>
            <a:chOff x="6012000" y="3774960"/>
            <a:chExt cx="2447640" cy="874800"/>
          </a:xfrm>
        </p:grpSpPr>
        <p:pic>
          <p:nvPicPr>
            <p:cNvPr id="166" name="" descr=""/>
            <p:cNvPicPr/>
            <p:nvPr/>
          </p:nvPicPr>
          <p:blipFill>
            <a:blip r:embed="rId13"/>
            <a:stretch/>
          </p:blipFill>
          <p:spPr>
            <a:xfrm>
              <a:off x="6012000" y="400536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372360" y="3774960"/>
              <a:ext cx="2087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uário com conexão disc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H="1" flipV="1">
            <a:off x="5292720" y="5661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227640" y="5157720"/>
            <a:ext cx="2376720" cy="1076400"/>
            <a:chOff x="6227640" y="5157720"/>
            <a:chExt cx="2376720" cy="1076400"/>
          </a:xfrm>
        </p:grpSpPr>
        <p:pic>
          <p:nvPicPr>
            <p:cNvPr id="170" name="" descr=""/>
            <p:cNvPicPr/>
            <p:nvPr/>
          </p:nvPicPr>
          <p:blipFill>
            <a:blip r:embed="rId14"/>
            <a:stretch/>
          </p:blipFill>
          <p:spPr>
            <a:xfrm>
              <a:off x="6227640" y="5589720"/>
              <a:ext cx="71928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299280" y="5157720"/>
              <a:ext cx="23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uário com conexão dedic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360880" y="3867120"/>
            <a:ext cx="183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15440" y="4467240"/>
            <a:ext cx="223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SP de a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23440" y="1700280"/>
            <a:ext cx="223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SP de a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 flipH="1" flipV="1">
            <a:off x="1142640" y="4220640"/>
            <a:ext cx="189000" cy="107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496280" y="4437000"/>
            <a:ext cx="93600" cy="9367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908000" y="342900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516720" y="3495600"/>
            <a:ext cx="43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-110880" y="2060640"/>
            <a:ext cx="2576880" cy="2160000"/>
            <a:chOff x="-110880" y="2060640"/>
            <a:chExt cx="2576880" cy="21600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971280" y="3213000"/>
              <a:ext cx="719280" cy="64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684000" y="256824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3"/>
            <a:stretch/>
          </p:blipFill>
          <p:spPr>
            <a:xfrm>
              <a:off x="323640" y="3139920"/>
              <a:ext cx="718920" cy="64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79280" y="2420640"/>
              <a:ext cx="1726920" cy="18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-110880" y="2060640"/>
              <a:ext cx="257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ISP de aces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531480" y="2303640"/>
            <a:ext cx="2576880" cy="2158920"/>
            <a:chOff x="6531480" y="2303640"/>
            <a:chExt cx="2576880" cy="2158920"/>
          </a:xfrm>
        </p:grpSpPr>
        <p:pic>
          <p:nvPicPr>
            <p:cNvPr id="186" name="" descr=""/>
            <p:cNvPicPr/>
            <p:nvPr/>
          </p:nvPicPr>
          <p:blipFill>
            <a:blip r:embed="rId4"/>
            <a:stretch/>
          </p:blipFill>
          <p:spPr>
            <a:xfrm>
              <a:off x="7737480" y="3595680"/>
              <a:ext cx="71928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5"/>
            <a:stretch/>
          </p:blipFill>
          <p:spPr>
            <a:xfrm>
              <a:off x="7450200" y="295128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6"/>
            <a:stretch/>
          </p:blipFill>
          <p:spPr>
            <a:xfrm>
              <a:off x="7089840" y="3522600"/>
              <a:ext cx="718920" cy="6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946920" y="2662200"/>
              <a:ext cx="1727280" cy="18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31480" y="2303640"/>
              <a:ext cx="257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ISP de aces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82560" y="5227560"/>
            <a:ext cx="3583440" cy="1640520"/>
            <a:chOff x="682560" y="5227560"/>
            <a:chExt cx="3583440" cy="1640520"/>
          </a:xfrm>
        </p:grpSpPr>
        <p:pic>
          <p:nvPicPr>
            <p:cNvPr id="192" name="" descr=""/>
            <p:cNvPicPr/>
            <p:nvPr/>
          </p:nvPicPr>
          <p:blipFill>
            <a:blip r:embed="rId7"/>
            <a:stretch/>
          </p:blipFill>
          <p:spPr>
            <a:xfrm>
              <a:off x="682560" y="5227560"/>
              <a:ext cx="112536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149840" y="6164280"/>
              <a:ext cx="311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Usuário de acesso</a:t>
              </a:r>
              <a:br>
                <a:rPr sz="2000"/>
              </a:b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 contínu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622480" y="5272200"/>
            <a:ext cx="3116160" cy="1640520"/>
            <a:chOff x="5622480" y="5272200"/>
            <a:chExt cx="3116160" cy="1640520"/>
          </a:xfrm>
        </p:grpSpPr>
        <p:pic>
          <p:nvPicPr>
            <p:cNvPr id="195" name="" descr=""/>
            <p:cNvPicPr/>
            <p:nvPr/>
          </p:nvPicPr>
          <p:blipFill>
            <a:blip r:embed="rId8"/>
            <a:stretch/>
          </p:blipFill>
          <p:spPr>
            <a:xfrm>
              <a:off x="6758280" y="5272200"/>
              <a:ext cx="112536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22480" y="6208920"/>
              <a:ext cx="311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Usuário de acesso</a:t>
              </a:r>
              <a:br>
                <a:rPr sz="2000"/>
              </a:b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disc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340000" y="2295360"/>
            <a:ext cx="4176720" cy="2303640"/>
            <a:chOff x="2340000" y="2295360"/>
            <a:chExt cx="4176720" cy="2303640"/>
          </a:xfrm>
        </p:grpSpPr>
        <p:pic>
          <p:nvPicPr>
            <p:cNvPr id="198" name="" descr=""/>
            <p:cNvPicPr/>
            <p:nvPr/>
          </p:nvPicPr>
          <p:blipFill>
            <a:blip r:embed="rId9"/>
            <a:stretch/>
          </p:blipFill>
          <p:spPr>
            <a:xfrm>
              <a:off x="2916360" y="2576520"/>
              <a:ext cx="302400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340000" y="2295360"/>
              <a:ext cx="4176720" cy="230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74360" y="2944800"/>
              <a:ext cx="366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 flipH="1" flipV="1">
            <a:off x="1142640" y="4239720"/>
            <a:ext cx="189000" cy="107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504200" y="4508280"/>
            <a:ext cx="93600" cy="93636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908000" y="344808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510240" y="3500280"/>
            <a:ext cx="43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-110880" y="2079720"/>
            <a:ext cx="2576880" cy="2160000"/>
            <a:chOff x="-110880" y="2079720"/>
            <a:chExt cx="2576880" cy="216000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971280" y="3232080"/>
              <a:ext cx="719280" cy="64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2"/>
            <a:stretch/>
          </p:blipFill>
          <p:spPr>
            <a:xfrm>
              <a:off x="684000" y="258732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>
              <a:off x="323640" y="3159000"/>
              <a:ext cx="718920" cy="64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79280" y="2439720"/>
              <a:ext cx="1726920" cy="18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-110880" y="2079720"/>
              <a:ext cx="257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ISP de aces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514200" y="2349360"/>
            <a:ext cx="2576880" cy="2158920"/>
            <a:chOff x="6514200" y="2349360"/>
            <a:chExt cx="2576880" cy="2158920"/>
          </a:xfrm>
        </p:grpSpPr>
        <p:pic>
          <p:nvPicPr>
            <p:cNvPr id="212" name="" descr=""/>
            <p:cNvPicPr/>
            <p:nvPr/>
          </p:nvPicPr>
          <p:blipFill>
            <a:blip r:embed="rId4"/>
            <a:stretch/>
          </p:blipFill>
          <p:spPr>
            <a:xfrm>
              <a:off x="7720200" y="3641400"/>
              <a:ext cx="71928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5"/>
            <a:stretch/>
          </p:blipFill>
          <p:spPr>
            <a:xfrm>
              <a:off x="7432920" y="299700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6"/>
            <a:stretch/>
          </p:blipFill>
          <p:spPr>
            <a:xfrm>
              <a:off x="7072560" y="3568320"/>
              <a:ext cx="718920" cy="6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6929640" y="2707920"/>
              <a:ext cx="1727280" cy="18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14200" y="2349360"/>
              <a:ext cx="257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ISP de aces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82560" y="5246640"/>
            <a:ext cx="3583440" cy="1640520"/>
            <a:chOff x="682560" y="5246640"/>
            <a:chExt cx="3583440" cy="1640520"/>
          </a:xfrm>
        </p:grpSpPr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682560" y="5246640"/>
              <a:ext cx="112536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149840" y="6183360"/>
              <a:ext cx="311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Usuário de acesso</a:t>
              </a:r>
              <a:br>
                <a:rPr sz="2000"/>
              </a:b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 contínu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676480" y="5283360"/>
            <a:ext cx="3116160" cy="1640160"/>
            <a:chOff x="5676480" y="5283360"/>
            <a:chExt cx="3116160" cy="1640160"/>
          </a:xfrm>
        </p:grpSpPr>
        <p:pic>
          <p:nvPicPr>
            <p:cNvPr id="221" name="" descr=""/>
            <p:cNvPicPr/>
            <p:nvPr/>
          </p:nvPicPr>
          <p:blipFill>
            <a:blip r:embed="rId8"/>
            <a:stretch/>
          </p:blipFill>
          <p:spPr>
            <a:xfrm>
              <a:off x="6812280" y="5283360"/>
              <a:ext cx="1125360" cy="100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676480" y="6219720"/>
              <a:ext cx="311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Usuário de acesso</a:t>
              </a:r>
              <a:br>
                <a:rPr sz="2000"/>
              </a:b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disc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340000" y="2290680"/>
            <a:ext cx="4176720" cy="2303640"/>
            <a:chOff x="2340000" y="2290680"/>
            <a:chExt cx="4176720" cy="2303640"/>
          </a:xfrm>
        </p:grpSpPr>
        <p:pic>
          <p:nvPicPr>
            <p:cNvPr id="224" name="" descr=""/>
            <p:cNvPicPr/>
            <p:nvPr/>
          </p:nvPicPr>
          <p:blipFill>
            <a:blip r:embed="rId9"/>
            <a:stretch/>
          </p:blipFill>
          <p:spPr>
            <a:xfrm>
              <a:off x="2916360" y="2571840"/>
              <a:ext cx="302400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340000" y="2290680"/>
              <a:ext cx="4176720" cy="230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74360" y="2940120"/>
              <a:ext cx="366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206000" y="144360"/>
            <a:ext cx="4229640" cy="2144880"/>
            <a:chOff x="1206000" y="144360"/>
            <a:chExt cx="4229640" cy="2144880"/>
          </a:xfrm>
        </p:grpSpPr>
        <p:grpSp>
          <p:nvGrpSpPr>
            <p:cNvPr id="228" name=""/>
            <p:cNvGrpSpPr/>
            <p:nvPr/>
          </p:nvGrpSpPr>
          <p:grpSpPr>
            <a:xfrm>
              <a:off x="1206000" y="144360"/>
              <a:ext cx="4229640" cy="1800360"/>
              <a:chOff x="1206000" y="144360"/>
              <a:chExt cx="4229640" cy="180036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851280" y="333360"/>
                <a:ext cx="1366920" cy="1289160"/>
                <a:chOff x="3851280" y="333360"/>
                <a:chExt cx="1366920" cy="12891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4140360" y="544320"/>
                  <a:ext cx="934920" cy="935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498920" y="977760"/>
                  <a:ext cx="719280" cy="64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211640" y="333360"/>
                  <a:ext cx="719280" cy="64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851280" y="904680"/>
                  <a:ext cx="719280" cy="644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4" name=""/>
              <p:cNvSpPr/>
              <p:nvPr/>
            </p:nvSpPr>
            <p:spPr>
              <a:xfrm>
                <a:off x="1206000" y="239760"/>
                <a:ext cx="285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ISP de conteú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564000" y="144360"/>
                <a:ext cx="1871640" cy="180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4500720" y="1930320"/>
              <a:ext cx="0" cy="35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68440" y="417240"/>
            <a:ext cx="63086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A Internet é: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8440" y="2313000"/>
            <a:ext cx="825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Rede de computador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Rede de serviço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Rede de pessoa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5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68440" y="417240"/>
            <a:ext cx="63086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Serviços da Internet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8440" y="2313000"/>
            <a:ext cx="825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E-mai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Comunicação instantânea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VoIP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WWW (World Wide Web)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5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11280" y="3933720"/>
            <a:ext cx="6192720" cy="935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360" y="4149720"/>
            <a:ext cx="6192720" cy="719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68440" y="417240"/>
            <a:ext cx="63086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Serviços da Internet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8440" y="2313000"/>
            <a:ext cx="825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E-mai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Comunicação instantânea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VoIP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5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00000" y="96516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Arial"/>
              </a:rPr>
              <a:t>Capacitação individualizada para</a:t>
            </a:r>
            <a:br>
              <a:rPr sz="3200"/>
            </a:br>
            <a:r>
              <a:rPr b="1" lang="pt-BR" sz="3200" spc="-1" strike="noStrike">
                <a:solidFill>
                  <a:srgbClr val="ff3300"/>
                </a:solidFill>
                <a:latin typeface="Arial"/>
              </a:rPr>
              <a:t>equipe da Imobiliária Casa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364500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o aproveitar melhor a rede para fazer contatos e gerar ven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99640" y="475452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Cid Caste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5348160"/>
            <a:ext cx="40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ccff"/>
                </a:solidFill>
                <a:latin typeface="Times New Roman"/>
              </a:rPr>
              <a:t>Cid@Castello.com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63244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5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30320" y="5857920"/>
            <a:ext cx="3124080" cy="0"/>
          </a:xfrm>
          <a:prstGeom prst="line">
            <a:avLst/>
          </a:prstGeom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2276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Internet como ferramenta de comunicação e ven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68440" y="417240"/>
            <a:ext cx="63086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Tipos de comunicação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8440" y="2313000"/>
            <a:ext cx="825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Síncrona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Assíncrona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5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8440" y="417240"/>
            <a:ext cx="63086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Comunicação síncrona</a:t>
            </a: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8440" y="2313000"/>
            <a:ext cx="825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Conversa pessoa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Telefon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Chat (MSN)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5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68080" y="417240"/>
            <a:ext cx="66675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Comunicação assíncrona</a:t>
            </a:r>
            <a:endParaRPr b="1" i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8440" y="2313000"/>
            <a:ext cx="825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Carta de pap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E-mai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Recado pessoa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SM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5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68080" y="417240"/>
            <a:ext cx="66675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Dicas para e-mails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8800" y="1557360"/>
            <a:ext cx="8161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Consulte a caixa-postal com frequência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Use e-mail com domínio próprio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Não use saudações temporai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Use e abuse de emotic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Use linguagem informa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Em algumas situações, prefira o telefon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5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827892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Conclusões despretenciosas…</a:t>
            </a:r>
            <a:endParaRPr b="1" i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5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Conclusões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58440" y="1630080"/>
            <a:ext cx="82566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Internet está se tornando o ambiente da convergência das midia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“grande rede” impacta nossas vidas de diversas formas e integrar-se a ela é fundamenta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Internet vai “grudar” em todos nó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5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865160" y="0"/>
            <a:ext cx="541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1230480"/>
            <a:ext cx="8076960" cy="47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Internet móvel vai superar micros em cinco 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mes New Roman"/>
              </a:rPr>
              <a:t>Quinta, 14 de dezembro de 2000, 08h27mi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mes New Roman"/>
              </a:rPr>
              <a:t>Em 2005, 50% dos acessos à Internet serão realizados por telefone celular, laptop e notebook. É o que revela uma pesquisa realizada pela consultoria Value Partners. Segundo o estudo, dentro de cinco anos o número de acesso por dispositivos móveis deve superar o de acesso por microcomputadores.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Times New Roman"/>
              </a:rPr>
              <a:t>Atualmente do total de internautas do planeta apenas 9% são usuários sem fio e outros 82% de computador convencional.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Times New Roman"/>
              </a:rPr>
              <a:t>Dentro de cinco ano, 56% dos internautas navegarão na Internet utilizando aparelhos móveis. No Brasil, 33% da população estará conectada à rede por meio de diferentes tipos de aparelhos sem fio até 2010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Times New Roman"/>
              </a:rPr>
              <a:t>Agência Estado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www.estado.com.b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5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62120" y="1230480"/>
            <a:ext cx="8076960" cy="436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amsung quer sistema de pagamento em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ata: 31/08/20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A Samsung está estudando a incorporação da tecnologia NFC (Near-Field Communication) nos celulares, o que dará aos aparelhos a possibilidade de fazer pagamentos, revelaram as companhias nesta terça-feira (31/08). A NFC é uma tecnologia wireless de baixo alcance que pode ser utilizada para identificação e comunicação. Como tecnologia de comunicação, a NFC permite a um telefone celular transferir fotografias a uma televisão ou computador. No Japão, Cingapura e Hong Kong, por exemplo, ela é utilizada para pagamentos. A incorporação do chip NFC da Philips nos telefones da Samsung permitirão que os aparelhos tenham funções de cartões de crédito e cartões inteligentes (smart cards).</a:t>
            </a:r>
            <a:br>
              <a:rPr sz="2100"/>
            </a:br>
            <a:r>
              <a:rPr b="1" lang="pt-BR" sz="2100" spc="-1" strike="noStrike">
                <a:solidFill>
                  <a:srgbClr val="000000"/>
                </a:solidFill>
                <a:latin typeface="Times New Roman"/>
              </a:rPr>
              <a:t>Fonte: IDG Now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5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00280" y="266688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id    Castell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6668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25909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@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65760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110160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25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25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190512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Times New Roman"/>
              </a:rPr>
              <a:t>E vou encerrar lembrando um amigo de infância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© 199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- 2000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24188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52280" y="152280"/>
            <a:ext cx="3581640" cy="2133720"/>
          </a:xfrm>
          <a:prstGeom prst="wedgeEllipseCallout">
            <a:avLst>
              <a:gd name="adj1" fmla="val 59175"/>
              <a:gd name="adj2" fmla="val 42337"/>
            </a:avLst>
          </a:prstGeom>
          <a:solidFill>
            <a:srgbClr val="21a1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6360" y="838080"/>
            <a:ext cx="3121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That’s all folks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75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00280" y="266688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id    Castell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6668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25909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@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365760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8379800">
            <a:off x="2916000" y="1268640"/>
            <a:ext cx="2664000" cy="936360"/>
          </a:xfrm>
          <a:prstGeom prst="leftArrow">
            <a:avLst>
              <a:gd name="adj1" fmla="val 50000"/>
              <a:gd name="adj2" fmla="val 71126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8379800">
            <a:off x="900000" y="1267920"/>
            <a:ext cx="2664000" cy="936720"/>
          </a:xfrm>
          <a:prstGeom prst="leftArrow">
            <a:avLst>
              <a:gd name="adj1" fmla="val 50000"/>
              <a:gd name="adj2" fmla="val 71099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24188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52280" y="152280"/>
            <a:ext cx="3581640" cy="2133720"/>
          </a:xfrm>
          <a:prstGeom prst="wedgeEllipseCallout">
            <a:avLst>
              <a:gd name="adj1" fmla="val 59175"/>
              <a:gd name="adj2" fmla="val 42337"/>
            </a:avLst>
          </a:prstGeom>
          <a:solidFill>
            <a:srgbClr val="21a1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0880" y="685800"/>
            <a:ext cx="29728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That’s </a:t>
            </a:r>
            <a:r>
              <a:rPr b="1" i="1" lang="en-US" sz="35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 all</a:t>
            </a:r>
            <a:br>
              <a:rPr sz="3500"/>
            </a:b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folks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75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09480" y="21337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3300"/>
                </a:solidFill>
                <a:latin typeface="Arial"/>
              </a:rPr>
              <a:t>Os slides dest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a e de outras palestras </a:t>
            </a:r>
            <a:r>
              <a:rPr b="1" lang="pt-BR" sz="4000" spc="-1" strike="noStrike">
                <a:solidFill>
                  <a:srgbClr val="cc3300"/>
                </a:solidFill>
                <a:latin typeface="Arial"/>
              </a:rPr>
              <a:t>estão disponíveis 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3733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www.</a:t>
            </a:r>
            <a:r>
              <a:rPr b="1" lang="pt-BR" sz="4000" spc="-1" strike="noStrike">
                <a:solidFill>
                  <a:srgbClr val="ffff00"/>
                </a:solidFill>
                <a:latin typeface="Times New Roman"/>
              </a:rPr>
              <a:t>CidCastello</a:t>
            </a: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.com.br/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lest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4419720"/>
            <a:ext cx="7467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5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900"/>
                            </p:stCondLst>
                            <p:childTnLst>
                              <p:par>
                                <p:cTn id="7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62120" y="609480"/>
            <a:ext cx="7696080" cy="563904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212760"/>
            <a:ext cx="312408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98400" y="1828800"/>
            <a:ext cx="16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E-mai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rcRect l="0" t="0" r="0" b="3710"/>
          <a:stretch/>
        </p:blipFill>
        <p:spPr>
          <a:xfrm>
            <a:off x="7372440" y="1514520"/>
            <a:ext cx="1428840" cy="19810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09480" y="304920"/>
            <a:ext cx="65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ff3300"/>
                </a:solidFill>
                <a:latin typeface="Arial"/>
              </a:rPr>
              <a:t>Cid Castell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10000" y="2884320"/>
            <a:ext cx="4419360" cy="0"/>
          </a:xfrm>
          <a:prstGeom prst="line">
            <a:avLst/>
          </a:prstGeom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66920" y="2351160"/>
            <a:ext cx="3657600" cy="0"/>
          </a:xfrm>
          <a:prstGeom prst="line">
            <a:avLst/>
          </a:prstGeom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7480" y="2438280"/>
            <a:ext cx="19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Web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960" y="3701880"/>
            <a:ext cx="560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Telefones: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(+55 67) 9621-9000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                            3027-77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23960" y="444816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Correspondências:</a:t>
            </a:r>
            <a:br>
              <a:rPr sz="2800"/>
            </a:b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Caixa Postal 1 Agência Central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     CEP 79002-970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     Campo Grande MS Bras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21680" y="1455840"/>
            <a:ext cx="1517400" cy="21333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320" y="1066680"/>
            <a:ext cx="48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ticulista, palestrante e consultor especializado em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6248520"/>
            <a:ext cx="762012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57200" y="378000"/>
            <a:ext cx="0" cy="5867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3581280"/>
            <a:ext cx="0" cy="2667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399960"/>
            <a:ext cx="762012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77320" y="396720"/>
            <a:ext cx="0" cy="1051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1798560"/>
            <a:ext cx="26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ffff"/>
                </a:solidFill>
                <a:latin typeface="Times New Roman"/>
              </a:rPr>
              <a:t>Cid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    </a:t>
            </a:r>
            <a:r>
              <a:rPr b="1" lang="pt-BR" sz="3200" spc="-1" strike="noStrike">
                <a:solidFill>
                  <a:srgbClr val="66ffff"/>
                </a:solidFill>
                <a:latin typeface="Times New Roman"/>
              </a:rPr>
              <a:t>Cast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09440" y="1798560"/>
            <a:ext cx="14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ffff"/>
                </a:solidFill>
                <a:latin typeface="Times New Roman"/>
              </a:rPr>
              <a:t>.com.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33560" y="1752480"/>
            <a:ext cx="5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@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85320" y="2362320"/>
            <a:ext cx="30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        </a:t>
            </a:r>
            <a:r>
              <a:rPr b="1" lang="pt-BR" sz="3200" spc="-1" strike="noStrike">
                <a:solidFill>
                  <a:srgbClr val="66ffff"/>
                </a:solidFill>
                <a:latin typeface="Times New Roman"/>
              </a:rPr>
              <a:t>CidCast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50920" y="2349360"/>
            <a:ext cx="14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ffff"/>
                </a:solidFill>
                <a:latin typeface="Times New Roman"/>
              </a:rPr>
              <a:t>.com.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67880" y="236232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ww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4360" y="312408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SN: </a:t>
            </a:r>
            <a:r>
              <a:rPr b="1" lang="pt-BR" sz="3200" spc="-1" strike="noStrike" u="sng">
                <a:solidFill>
                  <a:srgbClr val="66ffff"/>
                </a:solidFill>
                <a:uFillTx/>
                <a:latin typeface="Times New Roman"/>
              </a:rPr>
              <a:t>Cid@Castello.com.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5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500"/>
                            </p:stCondLst>
                            <p:childTnLst>
                              <p:par>
                                <p:cTn id="7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500"/>
                            </p:stCondLst>
                            <p:childTnLst>
                              <p:par>
                                <p:cTn id="8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75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4325"/>
                            </p:stCondLst>
                            <p:childTnLst>
                              <p:par>
                                <p:cTn id="8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9" dur="75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8525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75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9050"/>
                            </p:stCondLst>
                            <p:childTnLst>
                              <p:par>
                                <p:cTn id="8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75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9875"/>
                            </p:stCondLst>
                            <p:childTnLst>
                              <p:par>
                                <p:cTn id="8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875"/>
                            </p:stCondLst>
                            <p:childTnLst>
                              <p:par>
                                <p:cTn id="8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8" dur="75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1400"/>
                            </p:stCondLst>
                            <p:childTnLst>
                              <p:par>
                                <p:cTn id="8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1900"/>
                            </p:stCondLst>
                            <p:childTnLst>
                              <p:par>
                                <p:cTn id="8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75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8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75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3325"/>
                            </p:stCondLst>
                            <p:childTnLst>
                              <p:par>
                                <p:cTn id="8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4" dur="75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3625"/>
                            </p:stCondLst>
                            <p:childTnLst>
                              <p:par>
                                <p:cTn id="8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8" dur="75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4150"/>
                            </p:stCondLst>
                            <p:childTnLst>
                              <p:par>
                                <p:cTn id="8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4650"/>
                            </p:stCondLst>
                            <p:childTnLst>
                              <p:par>
                                <p:cTn id="8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75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6375"/>
                            </p:stCondLst>
                            <p:childTnLst>
                              <p:par>
                                <p:cTn id="8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75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9075"/>
                            </p:stCondLst>
                            <p:childTnLst>
                              <p:par>
                                <p:cTn id="8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75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4850"/>
                            </p:stCondLst>
                            <p:childTnLst>
                              <p:par>
                                <p:cTn id="8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04920" y="1447920"/>
            <a:ext cx="8381880" cy="3962160"/>
          </a:xfrm>
          <a:prstGeom prst="rect">
            <a:avLst/>
          </a:prstGeom>
          <a:solidFill>
            <a:srgbClr val="33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0"/>
                </a:solidFill>
                <a:latin typeface="Arial"/>
                <a:ea typeface="Arial"/>
              </a:rPr>
              <a:t>A tecnologia por si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Arial"/>
                <a:ea typeface="Arial"/>
              </a:rPr>
              <a:t>só não faz o futuro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…</a:t>
            </a:r>
            <a:endParaRPr b="1" i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75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4920" y="1447920"/>
            <a:ext cx="8381880" cy="3962160"/>
          </a:xfrm>
          <a:prstGeom prst="rect">
            <a:avLst/>
          </a:prstGeom>
          <a:solidFill>
            <a:srgbClr val="33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As pessoas fazem o futuro…</a:t>
            </a:r>
            <a:endParaRPr b="1" i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75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04920" y="1447920"/>
            <a:ext cx="8381880" cy="3962160"/>
          </a:xfrm>
          <a:prstGeom prst="rect">
            <a:avLst/>
          </a:prstGeom>
          <a:solidFill>
            <a:srgbClr val="33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E o futuro são as crianças…</a:t>
            </a:r>
            <a:endParaRPr b="1" i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75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04920" y="1447920"/>
            <a:ext cx="8381880" cy="3962160"/>
          </a:xfrm>
          <a:prstGeom prst="rect">
            <a:avLst/>
          </a:prstGeom>
          <a:solidFill>
            <a:srgbClr val="33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Para elas, comida, educação e cultura é o mínimo!</a:t>
            </a:r>
            <a:endParaRPr b="1" i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75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22320" y="-1440"/>
            <a:ext cx="9180720" cy="68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00280" y="266688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id    Castell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26668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5909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@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365760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3293640" y="61920"/>
            <a:ext cx="2341440" cy="295092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2950920"/>
              <a:gd name="textAreaBottom" fmla="*/ 2951280 h 295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343080" indent="-343080" algn="ctr"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457200" y="2514600"/>
            <a:ext cx="8381880" cy="15238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0440" y="2422440"/>
            <a:ext cx="883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9000" spc="-1" strike="noStrike">
                <a:solidFill>
                  <a:srgbClr val="ff3300"/>
                </a:solidFill>
                <a:latin typeface="Times New Roman"/>
              </a:rPr>
              <a:t>Muito obrigado!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27241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Ci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272412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6280" y="3714840"/>
            <a:ext cx="8001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270828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www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270828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Castell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110160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7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25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25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19320" y="27241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Ci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272412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6280" y="3714840"/>
            <a:ext cx="8001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70828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www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270828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Castell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8379800">
            <a:off x="3492360" y="1267920"/>
            <a:ext cx="2664000" cy="936720"/>
          </a:xfrm>
          <a:prstGeom prst="leftArrow">
            <a:avLst>
              <a:gd name="adj1" fmla="val 50000"/>
              <a:gd name="adj2" fmla="val 71099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8379800">
            <a:off x="2124000" y="1267920"/>
            <a:ext cx="2664000" cy="936720"/>
          </a:xfrm>
          <a:prstGeom prst="leftArrow">
            <a:avLst>
              <a:gd name="adj1" fmla="val 50000"/>
              <a:gd name="adj2" fmla="val 71099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27241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Ci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272412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6280" y="3714840"/>
            <a:ext cx="8001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270828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www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70828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Castell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3726000" y="61560"/>
            <a:ext cx="2341440" cy="295128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343080" indent="-343080" algn="ctr"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8:23:18Z</dcterms:created>
  <dc:creator>Cid Castello</dc:creator>
  <dc:description/>
  <dc:language>en-US</dc:language>
  <cp:lastModifiedBy>USER</cp:lastModifiedBy>
  <dcterms:modified xsi:type="dcterms:W3CDTF">2007-05-10T19:46:26Z</dcterms:modified>
  <cp:revision>825</cp:revision>
  <dc:subject/>
  <dc:title>Apresentação do PowerPoint</dc:title>
</cp:coreProperties>
</file>