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D50-3A68-40EC-9336-72DCCA831B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37A-5BC2-4DD3-8793-216FAB3AA0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E063FE-4660-4BED-B078-B95CFF7CE3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664F8-F26B-4ECA-8F43-41604C958A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C77CC8-2540-4909-8CFD-210CDE722B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B04BE-4062-4AE3-8127-385A95FB0C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391714-B49A-4524-8C0E-DB6ED6CB71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92F4C1-C82A-4153-B7A4-D016E4FFEE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6CDB46-B439-4167-B107-5D45B0C874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F2BA4B-3254-4FE8-B7C2-7C4FE48266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CDF3E7-C63B-468D-8C94-34EEAC7750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3992B1-0A06-4626-8FE2-9871D21AED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757616-CDF4-4F5D-99DD-689D4D2048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4F48A7-4480-439F-A0BF-71A8DB4882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8E6AD-1DD3-4399-915E-EBB1558999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CE9F3-C13E-427C-AE2F-0AD60A4260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1B986-E2DA-428D-BD2B-7E8FC1C28C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9AB8AF-9C16-4F00-86B9-AA35313EA7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5BC729-FFA4-4B63-865D-1A8052E301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6A1EDD-D89E-4B17-B440-ED412D8FA2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E9D9C1-360E-450D-92BF-9995BA8309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814009-21B9-4038-B922-1B7EBA2617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638E8E-5DF1-4B8B-821D-205E76EC09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505685-B019-4B7A-9B25-B226C745C2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8C4018-F92E-4302-958C-B0B413B2B9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C07533-85F4-4287-B23C-7E5B28ADED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0D24-6A1E-4B03-8ECC-398E43DC6A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stra no Sen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h30 – 2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fone 312-6260 (Sra. Euz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ADAA8E-1989-491C-B885-509DD62851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907FF6-E69D-4372-98A5-4C1DCA5F7A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201883-10A5-4BAB-A79D-8E4F559D40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6B08C6-4B6F-44FB-8988-12626320C1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062827-2395-46E4-A575-CCAB1F3D66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98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1680" y="182844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844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98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1680" y="4057200"/>
            <a:ext cx="2658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4760" y="380880"/>
            <a:ext cx="5715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9520" y="405720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44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520" y="1828440"/>
            <a:ext cx="4029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8440" y="4057200"/>
            <a:ext cx="825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cid.castello.com.br/mundo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1828440"/>
            <a:ext cx="825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5960" indent="-22716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9" descr="Clique aqui para informações sobre o mund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16800" y="7632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0"/>
          <p:cNvSpPr/>
          <p:nvPr/>
        </p:nvSpPr>
        <p:spPr>
          <a:xfrm>
            <a:off x="6827040" y="4078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CidCastello.com.b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6907320" y="685800"/>
            <a:ext cx="2181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49320" y="6248520"/>
            <a:ext cx="8915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 flipV="1">
            <a:off x="430200" y="304560"/>
            <a:ext cx="0" cy="6476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" name="Picture 14" descr="maozinha2"/>
          <p:cNvPicPr/>
          <p:nvPr/>
        </p:nvPicPr>
        <p:blipFill>
          <a:blip r:embed="rId5"/>
          <a:stretch/>
        </p:blipFill>
        <p:spPr>
          <a:xfrm>
            <a:off x="7821720" y="609480"/>
            <a:ext cx="384120" cy="4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2" descr="Imagem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ajkep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5120" y="380880"/>
            <a:ext cx="76946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Fluxo de informaçõe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8440" y="1630440"/>
            <a:ext cx="77295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ixa de entrad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ixa de saíd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quivo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xo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tajkep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68440" y="417600"/>
            <a:ext cx="7932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Rotina do correio-eletrônic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58800" y="1628640"/>
            <a:ext cx="7985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nvia-se uma nova mensag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cebe-se uma mensag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Faz-se a leitura (pelo remetente, pelo assunto e pelo corpo da mensagem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paga-se a mensag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sponde-se a mensagem e depois ela é apag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sponde-se a mensagem e depois ela é arquiv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ncaminha-se a mensagem e depois ela é apag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ncaminha-se a mensagem e depois ela é arquiv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0" descr="mapamundi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2"/>
          <p:cNvGrpSpPr/>
          <p:nvPr/>
        </p:nvGrpSpPr>
        <p:grpSpPr>
          <a:xfrm>
            <a:off x="2124000" y="3068640"/>
            <a:ext cx="1511280" cy="1509840"/>
            <a:chOff x="2124000" y="3068640"/>
            <a:chExt cx="1511280" cy="1509840"/>
          </a:xfrm>
        </p:grpSpPr>
        <p:sp>
          <p:nvSpPr>
            <p:cNvPr id="106" name="Oval 56"/>
            <p:cNvSpPr/>
            <p:nvPr/>
          </p:nvSpPr>
          <p:spPr>
            <a:xfrm>
              <a:off x="2413080" y="3213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07" name="Picture 15" descr="computador2"/>
            <p:cNvPicPr/>
            <p:nvPr/>
          </p:nvPicPr>
          <p:blipFill>
            <a:blip r:embed="rId2"/>
            <a:stretch/>
          </p:blipFill>
          <p:spPr>
            <a:xfrm>
              <a:off x="2916360" y="393372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6" descr="computador2"/>
            <p:cNvPicPr/>
            <p:nvPr/>
          </p:nvPicPr>
          <p:blipFill>
            <a:blip r:embed="rId3"/>
            <a:stretch/>
          </p:blipFill>
          <p:spPr>
            <a:xfrm>
              <a:off x="2556000" y="30686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7" descr="computador2"/>
            <p:cNvPicPr/>
            <p:nvPr/>
          </p:nvPicPr>
          <p:blipFill>
            <a:blip r:embed="rId4"/>
            <a:stretch/>
          </p:blipFill>
          <p:spPr>
            <a:xfrm>
              <a:off x="2124000" y="3789360"/>
              <a:ext cx="7192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37"/>
          <p:cNvSpPr/>
          <p:nvPr/>
        </p:nvSpPr>
        <p:spPr>
          <a:xfrm>
            <a:off x="4572000" y="692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rança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71"/>
          <p:cNvGrpSpPr/>
          <p:nvPr/>
        </p:nvGrpSpPr>
        <p:grpSpPr>
          <a:xfrm>
            <a:off x="1619280" y="1054080"/>
            <a:ext cx="1222200" cy="934920"/>
            <a:chOff x="1619280" y="1054080"/>
            <a:chExt cx="1222200" cy="934920"/>
          </a:xfrm>
        </p:grpSpPr>
        <p:sp>
          <p:nvSpPr>
            <p:cNvPr id="112" name="Oval 57"/>
            <p:cNvSpPr/>
            <p:nvPr/>
          </p:nvSpPr>
          <p:spPr>
            <a:xfrm>
              <a:off x="1763640" y="1054080"/>
              <a:ext cx="93528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13" name="Picture 33" descr="computador2"/>
            <p:cNvPicPr/>
            <p:nvPr/>
          </p:nvPicPr>
          <p:blipFill>
            <a:blip r:embed="rId5"/>
            <a:stretch/>
          </p:blipFill>
          <p:spPr>
            <a:xfrm>
              <a:off x="2122560" y="105408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0" descr="computador2"/>
            <p:cNvPicPr/>
            <p:nvPr/>
          </p:nvPicPr>
          <p:blipFill>
            <a:blip r:embed="rId6"/>
            <a:stretch/>
          </p:blipFill>
          <p:spPr>
            <a:xfrm>
              <a:off x="1619280" y="1341360"/>
              <a:ext cx="719280" cy="6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31"/>
          <p:cNvSpPr/>
          <p:nvPr/>
        </p:nvSpPr>
        <p:spPr>
          <a:xfrm>
            <a:off x="1116000" y="8920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UA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55" descr="computador2"/>
          <p:cNvPicPr/>
          <p:nvPr/>
        </p:nvPicPr>
        <p:blipFill>
          <a:blip r:embed="rId7"/>
          <a:stretch/>
        </p:blipFill>
        <p:spPr>
          <a:xfrm>
            <a:off x="4284720" y="1128600"/>
            <a:ext cx="718920" cy="644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8"/>
          <p:cNvSpPr/>
          <p:nvPr/>
        </p:nvSpPr>
        <p:spPr>
          <a:xfrm>
            <a:off x="7020000" y="5805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strália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59"/>
          <p:cNvSpPr/>
          <p:nvPr/>
        </p:nvSpPr>
        <p:spPr>
          <a:xfrm>
            <a:off x="1763640" y="465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Oval 60"/>
          <p:cNvSpPr/>
          <p:nvPr/>
        </p:nvSpPr>
        <p:spPr>
          <a:xfrm>
            <a:off x="3995640" y="260280"/>
            <a:ext cx="2232000" cy="223200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Oval 62"/>
          <p:cNvSpPr/>
          <p:nvPr/>
        </p:nvSpPr>
        <p:spPr>
          <a:xfrm>
            <a:off x="1476360" y="2924280"/>
            <a:ext cx="2521080" cy="252072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900000" y="404640"/>
            <a:ext cx="2232000" cy="223236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63"/>
          <p:cNvSpPr/>
          <p:nvPr/>
        </p:nvSpPr>
        <p:spPr>
          <a:xfrm flipH="1">
            <a:off x="3635280" y="2205000"/>
            <a:ext cx="720720" cy="10796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64"/>
          <p:cNvSpPr/>
          <p:nvPr/>
        </p:nvSpPr>
        <p:spPr>
          <a:xfrm>
            <a:off x="2471760" y="2552760"/>
            <a:ext cx="216000" cy="35856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66"/>
          <p:cNvSpPr/>
          <p:nvPr/>
        </p:nvSpPr>
        <p:spPr>
          <a:xfrm>
            <a:off x="5796000" y="2276640"/>
            <a:ext cx="1297080" cy="158400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67"/>
          <p:cNvSpPr/>
          <p:nvPr/>
        </p:nvSpPr>
        <p:spPr>
          <a:xfrm flipH="1" flipV="1">
            <a:off x="3995280" y="4149360"/>
            <a:ext cx="2089080" cy="6476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68"/>
          <p:cNvSpPr/>
          <p:nvPr/>
        </p:nvSpPr>
        <p:spPr>
          <a:xfrm flipH="1" flipV="1">
            <a:off x="2916360" y="2204640"/>
            <a:ext cx="3456000" cy="20876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69"/>
          <p:cNvSpPr/>
          <p:nvPr/>
        </p:nvSpPr>
        <p:spPr>
          <a:xfrm flipH="1">
            <a:off x="3084480" y="1268280"/>
            <a:ext cx="93672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Group 76"/>
          <p:cNvGrpSpPr/>
          <p:nvPr/>
        </p:nvGrpSpPr>
        <p:grpSpPr>
          <a:xfrm>
            <a:off x="7020000" y="4221000"/>
            <a:ext cx="1512720" cy="1513080"/>
            <a:chOff x="7020000" y="4221000"/>
            <a:chExt cx="1512720" cy="1513080"/>
          </a:xfrm>
        </p:grpSpPr>
        <p:sp>
          <p:nvSpPr>
            <p:cNvPr id="129" name="Oval 74"/>
            <p:cNvSpPr/>
            <p:nvPr/>
          </p:nvSpPr>
          <p:spPr>
            <a:xfrm>
              <a:off x="7235640" y="4510080"/>
              <a:ext cx="1224000" cy="12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30" name="Picture 52" descr="computador2"/>
            <p:cNvPicPr/>
            <p:nvPr/>
          </p:nvPicPr>
          <p:blipFill>
            <a:blip r:embed="rId8"/>
            <a:stretch/>
          </p:blipFill>
          <p:spPr>
            <a:xfrm>
              <a:off x="7812000" y="508464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3" descr="computador2"/>
            <p:cNvPicPr/>
            <p:nvPr/>
          </p:nvPicPr>
          <p:blipFill>
            <a:blip r:embed="rId9"/>
            <a:stretch/>
          </p:blipFill>
          <p:spPr>
            <a:xfrm>
              <a:off x="7020000" y="422100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4" descr="computador2"/>
            <p:cNvPicPr/>
            <p:nvPr/>
          </p:nvPicPr>
          <p:blipFill>
            <a:blip r:embed="rId10"/>
            <a:stretch/>
          </p:blipFill>
          <p:spPr>
            <a:xfrm>
              <a:off x="7094520" y="501336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6" descr="computador2"/>
            <p:cNvPicPr/>
            <p:nvPr/>
          </p:nvPicPr>
          <p:blipFill>
            <a:blip r:embed="rId11"/>
            <a:stretch/>
          </p:blipFill>
          <p:spPr>
            <a:xfrm>
              <a:off x="7813440" y="4368600"/>
              <a:ext cx="719280" cy="6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Oval 61"/>
          <p:cNvSpPr/>
          <p:nvPr/>
        </p:nvSpPr>
        <p:spPr>
          <a:xfrm>
            <a:off x="6012000" y="3789360"/>
            <a:ext cx="2881080" cy="288144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7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3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Arial"/>
              </a:rPr>
              <a:t>Internet</a:t>
            </a:r>
            <a:endParaRPr b="1" i="1" lang="en-US" sz="9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americas3"/>
          <p:cNvPicPr/>
          <p:nvPr/>
        </p:nvPicPr>
        <p:blipFill>
          <a:blip r:embed="rId1"/>
          <a:stretch/>
        </p:blipFill>
        <p:spPr>
          <a:xfrm>
            <a:off x="228600" y="806400"/>
            <a:ext cx="8736120" cy="5214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3059280" y="2278080"/>
            <a:ext cx="2016000" cy="287964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504000 h 2879640"/>
              <a:gd name="textAreaBottom" fmla="*/ 20880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 rot="8867400">
            <a:off x="3419640" y="1698120"/>
            <a:ext cx="5688000" cy="1298880"/>
          </a:xfrm>
          <a:custGeom>
            <a:avLst/>
            <a:gdLst>
              <a:gd name="textAreaLeft" fmla="*/ 0 w 5688000"/>
              <a:gd name="textAreaRight" fmla="*/ 5688360 w 568800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2701800" y="3571920"/>
            <a:ext cx="1225800" cy="1225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1692360" y="4508280"/>
            <a:ext cx="107928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H="1" flipV="1">
            <a:off x="3781440" y="457956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203640" y="2492280"/>
            <a:ext cx="7308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539640" y="4873680"/>
            <a:ext cx="1366920" cy="1289160"/>
            <a:chOff x="539640" y="4873680"/>
            <a:chExt cx="1366920" cy="1289160"/>
          </a:xfrm>
        </p:grpSpPr>
        <p:sp>
          <p:nvSpPr>
            <p:cNvPr id="145" name="Oval 8"/>
            <p:cNvSpPr/>
            <p:nvPr/>
          </p:nvSpPr>
          <p:spPr>
            <a:xfrm>
              <a:off x="828720" y="508464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46" name="Picture 9" descr="computador2"/>
            <p:cNvPicPr/>
            <p:nvPr/>
          </p:nvPicPr>
          <p:blipFill>
            <a:blip r:embed="rId1"/>
            <a:stretch/>
          </p:blipFill>
          <p:spPr>
            <a:xfrm>
              <a:off x="1187280" y="551808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computador2"/>
            <p:cNvPicPr/>
            <p:nvPr/>
          </p:nvPicPr>
          <p:blipFill>
            <a:blip r:embed="rId2"/>
            <a:stretch/>
          </p:blipFill>
          <p:spPr>
            <a:xfrm>
              <a:off x="900000" y="487368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computador2"/>
            <p:cNvPicPr/>
            <p:nvPr/>
          </p:nvPicPr>
          <p:blipFill>
            <a:blip r:embed="rId3"/>
            <a:stretch/>
          </p:blipFill>
          <p:spPr>
            <a:xfrm>
              <a:off x="539640" y="5445000"/>
              <a:ext cx="719280" cy="64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2"/>
          <p:cNvGrpSpPr/>
          <p:nvPr/>
        </p:nvGrpSpPr>
        <p:grpSpPr>
          <a:xfrm>
            <a:off x="2556000" y="1415880"/>
            <a:ext cx="1366560" cy="1289160"/>
            <a:chOff x="2556000" y="1415880"/>
            <a:chExt cx="1366560" cy="1289160"/>
          </a:xfrm>
        </p:grpSpPr>
        <p:sp>
          <p:nvSpPr>
            <p:cNvPr id="150" name="Oval 13"/>
            <p:cNvSpPr/>
            <p:nvPr/>
          </p:nvSpPr>
          <p:spPr>
            <a:xfrm>
              <a:off x="2773440" y="170028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51" name="Group 14"/>
            <p:cNvGrpSpPr/>
            <p:nvPr/>
          </p:nvGrpSpPr>
          <p:grpSpPr>
            <a:xfrm>
              <a:off x="2556000" y="1415880"/>
              <a:ext cx="1366560" cy="1289160"/>
              <a:chOff x="2556000" y="1415880"/>
              <a:chExt cx="1366560" cy="1289160"/>
            </a:xfrm>
          </p:grpSpPr>
          <p:pic>
            <p:nvPicPr>
              <p:cNvPr id="152" name="Picture 15" descr="computador2"/>
              <p:cNvPicPr/>
              <p:nvPr/>
            </p:nvPicPr>
            <p:blipFill>
              <a:blip r:embed="rId4"/>
              <a:stretch/>
            </p:blipFill>
            <p:spPr>
              <a:xfrm>
                <a:off x="3203640" y="206064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6" descr="computador2"/>
              <p:cNvPicPr/>
              <p:nvPr/>
            </p:nvPicPr>
            <p:blipFill>
              <a:blip r:embed="rId5"/>
              <a:stretch/>
            </p:blipFill>
            <p:spPr>
              <a:xfrm>
                <a:off x="2916360" y="1415880"/>
                <a:ext cx="71892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7" descr="computador2"/>
              <p:cNvPicPr/>
              <p:nvPr/>
            </p:nvPicPr>
            <p:blipFill>
              <a:blip r:embed="rId6"/>
              <a:stretch/>
            </p:blipFill>
            <p:spPr>
              <a:xfrm>
                <a:off x="2556000" y="1987560"/>
                <a:ext cx="71892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5" name="Group 18"/>
          <p:cNvGrpSpPr/>
          <p:nvPr/>
        </p:nvGrpSpPr>
        <p:grpSpPr>
          <a:xfrm>
            <a:off x="4140360" y="4803840"/>
            <a:ext cx="1366560" cy="1289160"/>
            <a:chOff x="4140360" y="4803840"/>
            <a:chExt cx="1366560" cy="1289160"/>
          </a:xfrm>
        </p:grpSpPr>
        <p:sp>
          <p:nvSpPr>
            <p:cNvPr id="156" name="Oval 19"/>
            <p:cNvSpPr/>
            <p:nvPr/>
          </p:nvSpPr>
          <p:spPr>
            <a:xfrm>
              <a:off x="4357800" y="501336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157" name="Picture 20" descr="computador2"/>
            <p:cNvPicPr/>
            <p:nvPr/>
          </p:nvPicPr>
          <p:blipFill>
            <a:blip r:embed="rId7"/>
            <a:stretch/>
          </p:blipFill>
          <p:spPr>
            <a:xfrm>
              <a:off x="4788000" y="54482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1" descr="computador2"/>
            <p:cNvPicPr/>
            <p:nvPr/>
          </p:nvPicPr>
          <p:blipFill>
            <a:blip r:embed="rId8"/>
            <a:stretch/>
          </p:blipFill>
          <p:spPr>
            <a:xfrm>
              <a:off x="4500720" y="480384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2" descr="computador2"/>
            <p:cNvPicPr/>
            <p:nvPr/>
          </p:nvPicPr>
          <p:blipFill>
            <a:blip r:embed="rId9"/>
            <a:stretch/>
          </p:blipFill>
          <p:spPr>
            <a:xfrm>
              <a:off x="4140360" y="5375160"/>
              <a:ext cx="718920" cy="6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Line 23"/>
          <p:cNvSpPr/>
          <p:nvPr/>
        </p:nvSpPr>
        <p:spPr>
          <a:xfrm flipH="1">
            <a:off x="5076360" y="4508640"/>
            <a:ext cx="136692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692360" y="14842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916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>
            <a:off x="3492000" y="76500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-343080" y="443700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SP de conteúdo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 rot="19632600">
            <a:off x="4802760" y="1412640"/>
            <a:ext cx="40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6" name="Group 29"/>
          <p:cNvGrpSpPr/>
          <p:nvPr/>
        </p:nvGrpSpPr>
        <p:grpSpPr>
          <a:xfrm>
            <a:off x="826920" y="692280"/>
            <a:ext cx="1079640" cy="933480"/>
            <a:chOff x="826920" y="692280"/>
            <a:chExt cx="1079640" cy="933480"/>
          </a:xfrm>
        </p:grpSpPr>
        <p:pic>
          <p:nvPicPr>
            <p:cNvPr id="167" name="Picture 30" descr="computador2"/>
            <p:cNvPicPr/>
            <p:nvPr/>
          </p:nvPicPr>
          <p:blipFill>
            <a:blip r:embed="rId10"/>
            <a:stretch/>
          </p:blipFill>
          <p:spPr>
            <a:xfrm>
              <a:off x="1187280" y="9810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31"/>
            <p:cNvSpPr/>
            <p:nvPr/>
          </p:nvSpPr>
          <p:spPr>
            <a:xfrm>
              <a:off x="826920" y="69228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2340000" y="260280"/>
            <a:ext cx="934920" cy="789120"/>
            <a:chOff x="2340000" y="260280"/>
            <a:chExt cx="934920" cy="789120"/>
          </a:xfrm>
        </p:grpSpPr>
        <p:pic>
          <p:nvPicPr>
            <p:cNvPr id="170" name="Picture 33" descr="computador2"/>
            <p:cNvPicPr/>
            <p:nvPr/>
          </p:nvPicPr>
          <p:blipFill>
            <a:blip r:embed="rId11"/>
            <a:stretch/>
          </p:blipFill>
          <p:spPr>
            <a:xfrm>
              <a:off x="2411280" y="40464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34"/>
            <p:cNvSpPr/>
            <p:nvPr/>
          </p:nvSpPr>
          <p:spPr>
            <a:xfrm>
              <a:off x="2340000" y="26028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72" name="Group 35"/>
          <p:cNvGrpSpPr/>
          <p:nvPr/>
        </p:nvGrpSpPr>
        <p:grpSpPr>
          <a:xfrm>
            <a:off x="3924360" y="189000"/>
            <a:ext cx="1008000" cy="860400"/>
            <a:chOff x="3924360" y="189000"/>
            <a:chExt cx="1008000" cy="860400"/>
          </a:xfrm>
        </p:grpSpPr>
        <p:pic>
          <p:nvPicPr>
            <p:cNvPr id="173" name="Picture 36" descr="computador2"/>
            <p:cNvPicPr/>
            <p:nvPr/>
          </p:nvPicPr>
          <p:blipFill>
            <a:blip r:embed="rId12"/>
            <a:stretch/>
          </p:blipFill>
          <p:spPr>
            <a:xfrm>
              <a:off x="3924360" y="4046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7"/>
            <p:cNvSpPr/>
            <p:nvPr/>
          </p:nvSpPr>
          <p:spPr>
            <a:xfrm>
              <a:off x="3997440" y="189000"/>
              <a:ext cx="9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6012000" y="3774960"/>
            <a:ext cx="2447640" cy="874800"/>
            <a:chOff x="6012000" y="3774960"/>
            <a:chExt cx="2447640" cy="874800"/>
          </a:xfrm>
        </p:grpSpPr>
        <p:pic>
          <p:nvPicPr>
            <p:cNvPr id="176" name="Picture 39" descr="computador2"/>
            <p:cNvPicPr/>
            <p:nvPr/>
          </p:nvPicPr>
          <p:blipFill>
            <a:blip r:embed="rId13"/>
            <a:stretch/>
          </p:blipFill>
          <p:spPr>
            <a:xfrm>
              <a:off x="6012000" y="400536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40"/>
            <p:cNvSpPr/>
            <p:nvPr/>
          </p:nvSpPr>
          <p:spPr>
            <a:xfrm>
              <a:off x="6372360" y="3774960"/>
              <a:ext cx="208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iscada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8" name="Line 41"/>
          <p:cNvSpPr/>
          <p:nvPr/>
        </p:nvSpPr>
        <p:spPr>
          <a:xfrm flipH="1" flipV="1">
            <a:off x="5292720" y="5661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42"/>
          <p:cNvGrpSpPr/>
          <p:nvPr/>
        </p:nvGrpSpPr>
        <p:grpSpPr>
          <a:xfrm>
            <a:off x="6227640" y="5157720"/>
            <a:ext cx="2376720" cy="1076400"/>
            <a:chOff x="6227640" y="5157720"/>
            <a:chExt cx="2376720" cy="1076400"/>
          </a:xfrm>
        </p:grpSpPr>
        <p:pic>
          <p:nvPicPr>
            <p:cNvPr id="180" name="Picture 43" descr="computador2"/>
            <p:cNvPicPr/>
            <p:nvPr/>
          </p:nvPicPr>
          <p:blipFill>
            <a:blip r:embed="rId14"/>
            <a:stretch/>
          </p:blipFill>
          <p:spPr>
            <a:xfrm>
              <a:off x="6227640" y="558972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4"/>
            <p:cNvSpPr/>
            <p:nvPr/>
          </p:nvSpPr>
          <p:spPr>
            <a:xfrm>
              <a:off x="6299280" y="515772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876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uário com conexão dedicada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2" name="Text Box 45"/>
          <p:cNvSpPr/>
          <p:nvPr/>
        </p:nvSpPr>
        <p:spPr>
          <a:xfrm>
            <a:off x="2362680" y="38671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4017240" y="44672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3225240" y="17002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SP de aces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-109080" y="2008080"/>
            <a:ext cx="2573280" cy="2160720"/>
            <a:chOff x="-109080" y="2008080"/>
            <a:chExt cx="2573280" cy="2160720"/>
          </a:xfrm>
        </p:grpSpPr>
        <p:pic>
          <p:nvPicPr>
            <p:cNvPr id="190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-109080" y="200808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6463440" y="2027160"/>
            <a:ext cx="2573280" cy="2158920"/>
            <a:chOff x="6463440" y="2027160"/>
            <a:chExt cx="2573280" cy="2158920"/>
          </a:xfrm>
        </p:grpSpPr>
        <p:pic>
          <p:nvPicPr>
            <p:cNvPr id="196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16"/>
            <p:cNvSpPr/>
            <p:nvPr/>
          </p:nvSpPr>
          <p:spPr>
            <a:xfrm>
              <a:off x="6877080" y="2385720"/>
              <a:ext cx="172728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>
              <a:off x="6463440" y="20271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01" name="Group 18"/>
          <p:cNvGrpSpPr/>
          <p:nvPr/>
        </p:nvGrpSpPr>
        <p:grpSpPr>
          <a:xfrm>
            <a:off x="682560" y="5175360"/>
            <a:ext cx="3581640" cy="1640520"/>
            <a:chOff x="682560" y="5175360"/>
            <a:chExt cx="3581640" cy="1640520"/>
          </a:xfrm>
        </p:grpSpPr>
        <p:pic>
          <p:nvPicPr>
            <p:cNvPr id="202" name="Picture 19" descr="computador2"/>
            <p:cNvPicPr/>
            <p:nvPr/>
          </p:nvPicPr>
          <p:blipFill>
            <a:blip r:embed="rId7"/>
            <a:stretch/>
          </p:blipFill>
          <p:spPr>
            <a:xfrm>
              <a:off x="682560" y="517536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0"/>
            <p:cNvSpPr/>
            <p:nvPr/>
          </p:nvSpPr>
          <p:spPr>
            <a:xfrm>
              <a:off x="1151640" y="6112080"/>
              <a:ext cx="311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contínu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04" name="Group 21"/>
          <p:cNvGrpSpPr/>
          <p:nvPr/>
        </p:nvGrpSpPr>
        <p:grpSpPr>
          <a:xfrm>
            <a:off x="5598720" y="5049720"/>
            <a:ext cx="3112560" cy="1640520"/>
            <a:chOff x="5598720" y="5049720"/>
            <a:chExt cx="3112560" cy="1640520"/>
          </a:xfrm>
        </p:grpSpPr>
        <p:pic>
          <p:nvPicPr>
            <p:cNvPr id="205" name="Picture 22" descr="computador2"/>
            <p:cNvPicPr/>
            <p:nvPr/>
          </p:nvPicPr>
          <p:blipFill>
            <a:blip r:embed="rId8"/>
            <a:stretch/>
          </p:blipFill>
          <p:spPr>
            <a:xfrm>
              <a:off x="6732720" y="504972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3"/>
            <p:cNvSpPr/>
            <p:nvPr/>
          </p:nvSpPr>
          <p:spPr>
            <a:xfrm>
              <a:off x="5598720" y="5986440"/>
              <a:ext cx="311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ad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07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208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1207800" y="115920"/>
            <a:ext cx="4227840" cy="2144160"/>
            <a:chOff x="1207800" y="115920"/>
            <a:chExt cx="4227840" cy="2144160"/>
          </a:xfrm>
        </p:grpSpPr>
        <p:grpSp>
          <p:nvGrpSpPr>
            <p:cNvPr id="212" name="Group 29"/>
            <p:cNvGrpSpPr/>
            <p:nvPr/>
          </p:nvGrpSpPr>
          <p:grpSpPr>
            <a:xfrm>
              <a:off x="1207800" y="115920"/>
              <a:ext cx="4227840" cy="1800000"/>
              <a:chOff x="1207800" y="115920"/>
              <a:chExt cx="4227840" cy="1800000"/>
            </a:xfrm>
          </p:grpSpPr>
          <p:grpSp>
            <p:nvGrpSpPr>
              <p:cNvPr id="213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214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215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8" name="Text Box 35"/>
              <p:cNvSpPr/>
              <p:nvPr/>
            </p:nvSpPr>
            <p:spPr>
              <a:xfrm>
                <a:off x="1207800" y="210960"/>
                <a:ext cx="285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1280" indent="-341280">
                  <a:spcBef>
                    <a:spcPts val="499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ISP de conteúdo</a:t>
                </a:r>
                <a:endParaRPr b="1" lang="en-US" sz="2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9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220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magem 1" descr="arroba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20640" y="3432240"/>
            <a:ext cx="7809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(Electronic Mail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CaixaDeTexto 10"/>
          <p:cNvSpPr/>
          <p:nvPr/>
        </p:nvSpPr>
        <p:spPr>
          <a:xfrm>
            <a:off x="1928880" y="414324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Ferramenta para comunicação assíncron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620640" y="2360520"/>
            <a:ext cx="7809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E-mail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68440" y="417600"/>
            <a:ext cx="6308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E-mai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58800" y="1628640"/>
            <a:ext cx="77709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POP3 e SMTP</a:t>
            </a:r>
            <a:br>
              <a:rPr sz="2700"/>
            </a:b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(Outlook Express, por exemplo)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Webmail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IMAP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Arial"/>
              </a:rPr>
              <a:t>Gmail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109080" y="2008080"/>
            <a:ext cx="2573280" cy="2160720"/>
            <a:chOff x="-109080" y="2008080"/>
            <a:chExt cx="2573280" cy="2160720"/>
          </a:xfrm>
        </p:grpSpPr>
        <p:pic>
          <p:nvPicPr>
            <p:cNvPr id="237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-109080" y="200808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6463440" y="2027160"/>
            <a:ext cx="2573280" cy="2158920"/>
            <a:chOff x="6463440" y="2027160"/>
            <a:chExt cx="2573280" cy="2158920"/>
          </a:xfrm>
        </p:grpSpPr>
        <p:pic>
          <p:nvPicPr>
            <p:cNvPr id="243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Oval 16"/>
            <p:cNvSpPr/>
            <p:nvPr/>
          </p:nvSpPr>
          <p:spPr>
            <a:xfrm>
              <a:off x="6877080" y="2385720"/>
              <a:ext cx="172728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6463440" y="20271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SP de acess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8" name="Group 18"/>
          <p:cNvGrpSpPr/>
          <p:nvPr/>
        </p:nvGrpSpPr>
        <p:grpSpPr>
          <a:xfrm>
            <a:off x="682560" y="5175360"/>
            <a:ext cx="3581640" cy="1640520"/>
            <a:chOff x="682560" y="5175360"/>
            <a:chExt cx="3581640" cy="1640520"/>
          </a:xfrm>
        </p:grpSpPr>
        <p:pic>
          <p:nvPicPr>
            <p:cNvPr id="249" name="Picture 19" descr="computador2"/>
            <p:cNvPicPr/>
            <p:nvPr/>
          </p:nvPicPr>
          <p:blipFill>
            <a:blip r:embed="rId7"/>
            <a:stretch/>
          </p:blipFill>
          <p:spPr>
            <a:xfrm>
              <a:off x="682560" y="517536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0"/>
            <p:cNvSpPr/>
            <p:nvPr/>
          </p:nvSpPr>
          <p:spPr>
            <a:xfrm>
              <a:off x="1151640" y="6112080"/>
              <a:ext cx="311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contínu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1" name="Group 21"/>
          <p:cNvGrpSpPr/>
          <p:nvPr/>
        </p:nvGrpSpPr>
        <p:grpSpPr>
          <a:xfrm>
            <a:off x="5598720" y="5049720"/>
            <a:ext cx="3112560" cy="1640520"/>
            <a:chOff x="5598720" y="5049720"/>
            <a:chExt cx="3112560" cy="1640520"/>
          </a:xfrm>
        </p:grpSpPr>
        <p:pic>
          <p:nvPicPr>
            <p:cNvPr id="252" name="Picture 22" descr="computador2"/>
            <p:cNvPicPr/>
            <p:nvPr/>
          </p:nvPicPr>
          <p:blipFill>
            <a:blip r:embed="rId8"/>
            <a:stretch/>
          </p:blipFill>
          <p:spPr>
            <a:xfrm>
              <a:off x="6732720" y="5049720"/>
              <a:ext cx="11253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3"/>
            <p:cNvSpPr/>
            <p:nvPr/>
          </p:nvSpPr>
          <p:spPr>
            <a:xfrm>
              <a:off x="5598720" y="5986440"/>
              <a:ext cx="311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 algn="ctr">
                <a:spcBef>
                  <a:spcPts val="49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Usuário de acesso</a:t>
              </a:r>
              <a:br>
                <a:rPr sz="2000"/>
              </a:b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ado</a:t>
              </a: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255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7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8" name="Group 28"/>
          <p:cNvGrpSpPr/>
          <p:nvPr/>
        </p:nvGrpSpPr>
        <p:grpSpPr>
          <a:xfrm>
            <a:off x="1207800" y="115920"/>
            <a:ext cx="4227840" cy="2144160"/>
            <a:chOff x="1207800" y="115920"/>
            <a:chExt cx="4227840" cy="2144160"/>
          </a:xfrm>
        </p:grpSpPr>
        <p:grpSp>
          <p:nvGrpSpPr>
            <p:cNvPr id="259" name="Group 29"/>
            <p:cNvGrpSpPr/>
            <p:nvPr/>
          </p:nvGrpSpPr>
          <p:grpSpPr>
            <a:xfrm>
              <a:off x="1207800" y="115920"/>
              <a:ext cx="4227840" cy="1800000"/>
              <a:chOff x="1207800" y="115920"/>
              <a:chExt cx="4227840" cy="1800000"/>
            </a:xfrm>
          </p:grpSpPr>
          <p:grpSp>
            <p:nvGrpSpPr>
              <p:cNvPr id="260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261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262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5" name="Text Box 35"/>
              <p:cNvSpPr/>
              <p:nvPr/>
            </p:nvSpPr>
            <p:spPr>
              <a:xfrm>
                <a:off x="1207800" y="210960"/>
                <a:ext cx="285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1280" indent="-341280">
                  <a:spcBef>
                    <a:spcPts val="499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ISP de conteúdo</a:t>
                </a:r>
                <a:endParaRPr b="1" lang="en-US" sz="2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6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267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72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273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278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282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285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7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3564000" y="115920"/>
            <a:ext cx="1871640" cy="2144160"/>
            <a:chOff x="3564000" y="115920"/>
            <a:chExt cx="1871640" cy="2144160"/>
          </a:xfrm>
        </p:grpSpPr>
        <p:grpSp>
          <p:nvGrpSpPr>
            <p:cNvPr id="289" name="Group 29"/>
            <p:cNvGrpSpPr/>
            <p:nvPr/>
          </p:nvGrpSpPr>
          <p:grpSpPr>
            <a:xfrm>
              <a:off x="3564000" y="115920"/>
              <a:ext cx="1871640" cy="1800000"/>
              <a:chOff x="3564000" y="115920"/>
              <a:chExt cx="1871640" cy="1800000"/>
            </a:xfrm>
          </p:grpSpPr>
          <p:grpSp>
            <p:nvGrpSpPr>
              <p:cNvPr id="290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291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292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5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296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97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CaixaDeTexto 33"/>
          <p:cNvSpPr/>
          <p:nvPr/>
        </p:nvSpPr>
        <p:spPr>
          <a:xfrm>
            <a:off x="214200" y="63151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CaixaDeTexto 35"/>
          <p:cNvSpPr/>
          <p:nvPr/>
        </p:nvSpPr>
        <p:spPr>
          <a:xfrm>
            <a:off x="5429160" y="3571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hotmail.com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CaixaDeTexto 36"/>
          <p:cNvSpPr/>
          <p:nvPr/>
        </p:nvSpPr>
        <p:spPr>
          <a:xfrm>
            <a:off x="1643040" y="285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andsh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57120" y="428760"/>
            <a:ext cx="8382240" cy="6043320"/>
          </a:xfrm>
          <a:prstGeom prst="rect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357120" y="2039760"/>
            <a:ext cx="8358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0" spc="-1" strike="noStrike">
                <a:solidFill>
                  <a:srgbClr val="ff3300"/>
                </a:solidFill>
                <a:latin typeface="Times New Roman"/>
              </a:rPr>
              <a:t>Bom dia!</a:t>
            </a:r>
            <a:endParaRPr b="1" lang="en-US" sz="1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aixaDeTexto 3"/>
          <p:cNvSpPr/>
          <p:nvPr/>
        </p:nvSpPr>
        <p:spPr>
          <a:xfrm>
            <a:off x="214200" y="239400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protocolo SMTP, Maria envia um e-mail para José usando a conta de correio-eletrônico dele no Terr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José baixa a mensagem recebida de Maria em seu e-mail do Terra para sua máquina, usando protocolo POP3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CaixaDeTexto 4"/>
          <p:cNvSpPr/>
          <p:nvPr/>
        </p:nvSpPr>
        <p:spPr>
          <a:xfrm>
            <a:off x="2143080" y="15717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tuação 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310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4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315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19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322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4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5" name="Group 28"/>
          <p:cNvGrpSpPr/>
          <p:nvPr/>
        </p:nvGrpSpPr>
        <p:grpSpPr>
          <a:xfrm>
            <a:off x="3564000" y="115920"/>
            <a:ext cx="1871640" cy="2144160"/>
            <a:chOff x="3564000" y="115920"/>
            <a:chExt cx="1871640" cy="2144160"/>
          </a:xfrm>
        </p:grpSpPr>
        <p:grpSp>
          <p:nvGrpSpPr>
            <p:cNvPr id="326" name="Group 29"/>
            <p:cNvGrpSpPr/>
            <p:nvPr/>
          </p:nvGrpSpPr>
          <p:grpSpPr>
            <a:xfrm>
              <a:off x="3564000" y="115920"/>
              <a:ext cx="1871640" cy="1800000"/>
              <a:chOff x="3564000" y="115920"/>
              <a:chExt cx="1871640" cy="1800000"/>
            </a:xfrm>
          </p:grpSpPr>
          <p:grpSp>
            <p:nvGrpSpPr>
              <p:cNvPr id="327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328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329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2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33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34" name="Imagem 37" descr="MCj04315870000[1].png"/>
          <p:cNvPicPr/>
          <p:nvPr/>
        </p:nvPicPr>
        <p:blipFill>
          <a:blip r:embed="rId13"/>
          <a:stretch/>
        </p:blipFill>
        <p:spPr>
          <a:xfrm>
            <a:off x="7715160" y="5214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335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CaixaDeTexto 33"/>
          <p:cNvSpPr/>
          <p:nvPr/>
        </p:nvSpPr>
        <p:spPr>
          <a:xfrm>
            <a:off x="214200" y="63151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CaixaDeTexto 35"/>
          <p:cNvSpPr/>
          <p:nvPr/>
        </p:nvSpPr>
        <p:spPr>
          <a:xfrm>
            <a:off x="5429160" y="3571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hotmail.com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CaixaDeTexto 36"/>
          <p:cNvSpPr/>
          <p:nvPr/>
        </p:nvSpPr>
        <p:spPr>
          <a:xfrm>
            <a:off x="1643040" y="285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51 -0.02361 L -0.0401 -0.33843 E">
                                      <p:cBhvr>
                                        <p:cTn id="740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-0.33843 L -0.74896 -0.35949 E">
                                      <p:cBhvr>
                                        <p:cTn id="74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895 -0.35949 L -0.68576 0.06042 E">
                                      <p:cBhvr>
                                        <p:cTn id="74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aixaDeTexto 3"/>
          <p:cNvSpPr/>
          <p:nvPr/>
        </p:nvSpPr>
        <p:spPr>
          <a:xfrm>
            <a:off x="214200" y="239400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protocolo SMTP, Maria envia um e-mail para José usando a conta de correio-eletrônico dele no Hotmai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José baixa a mensagem recebida de Maria em seu e-mail do Hotmail para sua máquina, usando protocolo POP3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CaixaDeTexto 4"/>
          <p:cNvSpPr/>
          <p:nvPr/>
        </p:nvSpPr>
        <p:spPr>
          <a:xfrm>
            <a:off x="2143080" y="15717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tuação 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348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52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353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57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360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2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63" name="Group 28"/>
          <p:cNvGrpSpPr/>
          <p:nvPr/>
        </p:nvGrpSpPr>
        <p:grpSpPr>
          <a:xfrm>
            <a:off x="3564000" y="115920"/>
            <a:ext cx="1871640" cy="2144160"/>
            <a:chOff x="3564000" y="115920"/>
            <a:chExt cx="1871640" cy="2144160"/>
          </a:xfrm>
        </p:grpSpPr>
        <p:grpSp>
          <p:nvGrpSpPr>
            <p:cNvPr id="364" name="Group 29"/>
            <p:cNvGrpSpPr/>
            <p:nvPr/>
          </p:nvGrpSpPr>
          <p:grpSpPr>
            <a:xfrm>
              <a:off x="3564000" y="115920"/>
              <a:ext cx="1871640" cy="1800000"/>
              <a:chOff x="3564000" y="115920"/>
              <a:chExt cx="1871640" cy="1800000"/>
            </a:xfrm>
          </p:grpSpPr>
          <p:grpSp>
            <p:nvGrpSpPr>
              <p:cNvPr id="365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366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367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0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71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72" name="Imagem 37" descr="MCj04315870000[1].png"/>
          <p:cNvPicPr/>
          <p:nvPr/>
        </p:nvPicPr>
        <p:blipFill>
          <a:blip r:embed="rId13"/>
          <a:stretch/>
        </p:blipFill>
        <p:spPr>
          <a:xfrm>
            <a:off x="7715160" y="5214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CaixaDeTexto 33"/>
          <p:cNvSpPr/>
          <p:nvPr/>
        </p:nvSpPr>
        <p:spPr>
          <a:xfrm>
            <a:off x="214200" y="63151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CaixaDeTexto 35"/>
          <p:cNvSpPr/>
          <p:nvPr/>
        </p:nvSpPr>
        <p:spPr>
          <a:xfrm>
            <a:off x="5429160" y="3571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hotmail.com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CaixaDeTexto 36"/>
          <p:cNvSpPr/>
          <p:nvPr/>
        </p:nvSpPr>
        <p:spPr>
          <a:xfrm>
            <a:off x="1643040" y="285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51 -0.02361 L -0.0401 -0.33843 E">
                                      <p:cBhvr>
                                        <p:cTn id="770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-0.33843 C -0.14045 -0.32477 -0.2408 -0.31088 -0.30121 -0.34028 C -0.36163 -0.36968 -0.38715 -0.4544 -0.4026 -0.51435 C -0.41805 -0.57431 -0.40625 -0.63704 -0.39427 -0.69954 E">
                                      <p:cBhvr>
                                        <p:cTn id="774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27 -0.69953 C -0.39149 -0.55787 -0.38871 -0.41597 -0.45677 -0.35509 C -0.52482 -0.29421 -0.66371 -0.31458 -0.8026 -0.33472 E">
                                      <p:cBhvr>
                                        <p:cTn id="77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26 -0.33473 L -0.76337 -0.01991 E">
                                      <p:cBhvr>
                                        <p:cTn id="78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CaixaDeTexto 3"/>
          <p:cNvSpPr/>
          <p:nvPr/>
        </p:nvSpPr>
        <p:spPr>
          <a:xfrm>
            <a:off x="214200" y="239400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protocolo SMTP, Maria envia um e-mail para José usando a conta de correio-eletrônico dele no Terr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webmail, José lê a mensagem recebida de Maria em seu e-mail do Terra diretamente no site do provedor, sem baixá-lo para sua máquin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CaixaDeTexto 4"/>
          <p:cNvSpPr/>
          <p:nvPr/>
        </p:nvSpPr>
        <p:spPr>
          <a:xfrm>
            <a:off x="2143080" y="15717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tuação 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5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386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0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391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95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398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0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01" name="Group 28"/>
          <p:cNvGrpSpPr/>
          <p:nvPr/>
        </p:nvGrpSpPr>
        <p:grpSpPr>
          <a:xfrm>
            <a:off x="3564000" y="115920"/>
            <a:ext cx="1871640" cy="2144160"/>
            <a:chOff x="3564000" y="115920"/>
            <a:chExt cx="1871640" cy="2144160"/>
          </a:xfrm>
        </p:grpSpPr>
        <p:grpSp>
          <p:nvGrpSpPr>
            <p:cNvPr id="402" name="Group 29"/>
            <p:cNvGrpSpPr/>
            <p:nvPr/>
          </p:nvGrpSpPr>
          <p:grpSpPr>
            <a:xfrm>
              <a:off x="3564000" y="115920"/>
              <a:ext cx="1871640" cy="1800000"/>
              <a:chOff x="3564000" y="115920"/>
              <a:chExt cx="1871640" cy="1800000"/>
            </a:xfrm>
          </p:grpSpPr>
          <p:grpSp>
            <p:nvGrpSpPr>
              <p:cNvPr id="403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404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405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08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09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410" name="Imagem 37" descr="MCj04315870000[1].png"/>
          <p:cNvPicPr/>
          <p:nvPr/>
        </p:nvPicPr>
        <p:blipFill>
          <a:blip r:embed="rId13"/>
          <a:stretch/>
        </p:blipFill>
        <p:spPr>
          <a:xfrm>
            <a:off x="7715160" y="5214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11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CaixaDeTexto 33"/>
          <p:cNvSpPr/>
          <p:nvPr/>
        </p:nvSpPr>
        <p:spPr>
          <a:xfrm>
            <a:off x="214200" y="63151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CaixaDeTexto 35"/>
          <p:cNvSpPr/>
          <p:nvPr/>
        </p:nvSpPr>
        <p:spPr>
          <a:xfrm>
            <a:off x="5429160" y="3571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hotmail.com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CaixaDeTexto 36"/>
          <p:cNvSpPr/>
          <p:nvPr/>
        </p:nvSpPr>
        <p:spPr>
          <a:xfrm>
            <a:off x="1643040" y="285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51 -0.02361 L -0.0401 -0.33843 E">
                                      <p:cBhvr>
                                        <p:cTn id="804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-0.33843 L -0.74896 -0.35949 E">
                                      <p:cBhvr>
                                        <p:cTn id="80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3"/>
          <p:cNvSpPr/>
          <p:nvPr/>
        </p:nvSpPr>
        <p:spPr>
          <a:xfrm>
            <a:off x="214200" y="239400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protocolo SMTP, Maria envia um e-mail para José usando a conta de correio-eletrônico dele no Hotmai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sando o webmail, José lê a mensagem recebida de Maria em seu e-mail do Hotmail diretamente no site do provedor, sem baixá-lo para sua máquin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CaixaDeTexto 4"/>
          <p:cNvSpPr/>
          <p:nvPr/>
        </p:nvSpPr>
        <p:spPr>
          <a:xfrm>
            <a:off x="2143080" y="15717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tuação 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 flipH="1" flipV="1">
            <a:off x="1142640" y="4168440"/>
            <a:ext cx="18900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3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424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28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429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433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436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38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39" name="Group 28"/>
          <p:cNvGrpSpPr/>
          <p:nvPr/>
        </p:nvGrpSpPr>
        <p:grpSpPr>
          <a:xfrm>
            <a:off x="3564000" y="115920"/>
            <a:ext cx="1871640" cy="2144160"/>
            <a:chOff x="3564000" y="115920"/>
            <a:chExt cx="1871640" cy="2144160"/>
          </a:xfrm>
        </p:grpSpPr>
        <p:grpSp>
          <p:nvGrpSpPr>
            <p:cNvPr id="440" name="Group 29"/>
            <p:cNvGrpSpPr/>
            <p:nvPr/>
          </p:nvGrpSpPr>
          <p:grpSpPr>
            <a:xfrm>
              <a:off x="3564000" y="115920"/>
              <a:ext cx="1871640" cy="1800000"/>
              <a:chOff x="3564000" y="115920"/>
              <a:chExt cx="1871640" cy="1800000"/>
            </a:xfrm>
          </p:grpSpPr>
          <p:grpSp>
            <p:nvGrpSpPr>
              <p:cNvPr id="441" name="Group 30"/>
              <p:cNvGrpSpPr/>
              <p:nvPr/>
            </p:nvGrpSpPr>
            <p:grpSpPr>
              <a:xfrm>
                <a:off x="3851280" y="304560"/>
                <a:ext cx="1366920" cy="1288440"/>
                <a:chOff x="3851280" y="304560"/>
                <a:chExt cx="1366920" cy="1288440"/>
              </a:xfrm>
            </p:grpSpPr>
            <p:sp>
              <p:nvSpPr>
                <p:cNvPr id="442" name="Oval 31"/>
                <p:cNvSpPr/>
                <p:nvPr/>
              </p:nvSpPr>
              <p:spPr>
                <a:xfrm>
                  <a:off x="4140360" y="515160"/>
                  <a:ext cx="9349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pic>
              <p:nvPicPr>
                <p:cNvPr id="443" name="Picture 32" descr="computador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98920" y="94860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33" descr="computador2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211640" y="304560"/>
                  <a:ext cx="719280" cy="64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34" descr="computador2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51280" y="875520"/>
                  <a:ext cx="71928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6" name="Oval 36"/>
              <p:cNvSpPr/>
              <p:nvPr/>
            </p:nvSpPr>
            <p:spPr>
              <a:xfrm>
                <a:off x="3564000" y="115920"/>
                <a:ext cx="1871640" cy="180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47" name="Line 37"/>
            <p:cNvSpPr/>
            <p:nvPr/>
          </p:nvSpPr>
          <p:spPr>
            <a:xfrm>
              <a:off x="4500720" y="1901520"/>
              <a:ext cx="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448" name="Imagem 37" descr="MCj04315870000[1].png"/>
          <p:cNvPicPr/>
          <p:nvPr/>
        </p:nvPicPr>
        <p:blipFill>
          <a:blip r:embed="rId13"/>
          <a:stretch/>
        </p:blipFill>
        <p:spPr>
          <a:xfrm>
            <a:off x="7715160" y="5214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449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CaixaDeTexto 33"/>
          <p:cNvSpPr/>
          <p:nvPr/>
        </p:nvSpPr>
        <p:spPr>
          <a:xfrm>
            <a:off x="214200" y="63151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CaixaDeTexto 35"/>
          <p:cNvSpPr/>
          <p:nvPr/>
        </p:nvSpPr>
        <p:spPr>
          <a:xfrm>
            <a:off x="5429160" y="35712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hotmail.com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CaixaDeTexto 36"/>
          <p:cNvSpPr/>
          <p:nvPr/>
        </p:nvSpPr>
        <p:spPr>
          <a:xfrm>
            <a:off x="1643040" y="285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otmai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51 -0.02361 L -0.0401 -0.33843 E">
                                      <p:cBhvr>
                                        <p:cTn id="83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-0.33843 C -0.14045 -0.32477 -0.2408 -0.31088 -0.30121 -0.34028 C -0.36163 -0.36968 -0.38715 -0.4544 -0.4026 -0.51435 C -0.41805 -0.57431 -0.40625 -0.63704 -0.39427 -0.69954 E">
                                      <p:cBhvr>
                                        <p:cTn id="834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CaixaDeTexto 3"/>
          <p:cNvSpPr/>
          <p:nvPr/>
        </p:nvSpPr>
        <p:spPr>
          <a:xfrm>
            <a:off x="214200" y="23940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Qual o sentido da seguinte fras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“ –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nda a mensagem para o meu e-mail de casa...”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CaixaDeTexto 4"/>
          <p:cNvSpPr/>
          <p:nvPr/>
        </p:nvSpPr>
        <p:spPr>
          <a:xfrm>
            <a:off x="2143080" y="15717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estão para análi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3"/>
          <p:cNvSpPr/>
          <p:nvPr/>
        </p:nvSpPr>
        <p:spPr>
          <a:xfrm flipV="1">
            <a:off x="7451640" y="4186080"/>
            <a:ext cx="9360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Line 4"/>
          <p:cNvSpPr/>
          <p:nvPr/>
        </p:nvSpPr>
        <p:spPr>
          <a:xfrm flipH="1">
            <a:off x="1908000" y="33764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Line 5"/>
          <p:cNvSpPr/>
          <p:nvPr/>
        </p:nvSpPr>
        <p:spPr>
          <a:xfrm flipH="1">
            <a:off x="6472080" y="3178080"/>
            <a:ext cx="4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0" name="Group 6"/>
          <p:cNvGrpSpPr/>
          <p:nvPr/>
        </p:nvGrpSpPr>
        <p:grpSpPr>
          <a:xfrm>
            <a:off x="179280" y="2368440"/>
            <a:ext cx="1726920" cy="1800360"/>
            <a:chOff x="179280" y="2368440"/>
            <a:chExt cx="1726920" cy="1800360"/>
          </a:xfrm>
        </p:grpSpPr>
        <p:pic>
          <p:nvPicPr>
            <p:cNvPr id="461" name="Picture 7" descr="computador2"/>
            <p:cNvPicPr/>
            <p:nvPr/>
          </p:nvPicPr>
          <p:blipFill>
            <a:blip r:embed="rId1"/>
            <a:stretch/>
          </p:blipFill>
          <p:spPr>
            <a:xfrm>
              <a:off x="971280" y="31608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8" descr="computador2"/>
            <p:cNvPicPr/>
            <p:nvPr/>
          </p:nvPicPr>
          <p:blipFill>
            <a:blip r:embed="rId2"/>
            <a:stretch/>
          </p:blipFill>
          <p:spPr>
            <a:xfrm>
              <a:off x="684000" y="2516040"/>
              <a:ext cx="718920" cy="6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9" descr="computador2"/>
            <p:cNvPicPr/>
            <p:nvPr/>
          </p:nvPicPr>
          <p:blipFill>
            <a:blip r:embed="rId3"/>
            <a:stretch/>
          </p:blipFill>
          <p:spPr>
            <a:xfrm>
              <a:off x="323640" y="30877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Oval 10"/>
            <p:cNvSpPr/>
            <p:nvPr/>
          </p:nvSpPr>
          <p:spPr>
            <a:xfrm>
              <a:off x="179280" y="2368440"/>
              <a:ext cx="1726920" cy="18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5" name="Group 12"/>
          <p:cNvGrpSpPr/>
          <p:nvPr/>
        </p:nvGrpSpPr>
        <p:grpSpPr>
          <a:xfrm>
            <a:off x="6877080" y="2386080"/>
            <a:ext cx="1727280" cy="1800000"/>
            <a:chOff x="6877080" y="2386080"/>
            <a:chExt cx="1727280" cy="1800000"/>
          </a:xfrm>
        </p:grpSpPr>
        <p:pic>
          <p:nvPicPr>
            <p:cNvPr id="466" name="Picture 13" descr="computador2"/>
            <p:cNvPicPr/>
            <p:nvPr/>
          </p:nvPicPr>
          <p:blipFill>
            <a:blip r:embed="rId4"/>
            <a:stretch/>
          </p:blipFill>
          <p:spPr>
            <a:xfrm>
              <a:off x="7667640" y="3319200"/>
              <a:ext cx="71928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4" descr="computador2"/>
            <p:cNvPicPr/>
            <p:nvPr/>
          </p:nvPicPr>
          <p:blipFill>
            <a:blip r:embed="rId5"/>
            <a:stretch/>
          </p:blipFill>
          <p:spPr>
            <a:xfrm>
              <a:off x="7380360" y="2674800"/>
              <a:ext cx="71892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5" descr="computador2"/>
            <p:cNvPicPr/>
            <p:nvPr/>
          </p:nvPicPr>
          <p:blipFill>
            <a:blip r:embed="rId6"/>
            <a:stretch/>
          </p:blipFill>
          <p:spPr>
            <a:xfrm>
              <a:off x="7020000" y="3246120"/>
              <a:ext cx="71892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Oval 16"/>
            <p:cNvSpPr/>
            <p:nvPr/>
          </p:nvSpPr>
          <p:spPr>
            <a:xfrm>
              <a:off x="6877080" y="2386080"/>
              <a:ext cx="172728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470" name="Picture 19" descr="computador2"/>
          <p:cNvPicPr/>
          <p:nvPr/>
        </p:nvPicPr>
        <p:blipFill>
          <a:blip r:embed="rId7"/>
          <a:stretch/>
        </p:blipFill>
        <p:spPr>
          <a:xfrm>
            <a:off x="682560" y="5175360"/>
            <a:ext cx="1125720" cy="1009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2" descr="computador2"/>
          <p:cNvPicPr/>
          <p:nvPr/>
        </p:nvPicPr>
        <p:blipFill>
          <a:blip r:embed="rId8"/>
          <a:stretch/>
        </p:blipFill>
        <p:spPr>
          <a:xfrm>
            <a:off x="6732720" y="5049720"/>
            <a:ext cx="11253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24"/>
          <p:cNvGrpSpPr/>
          <p:nvPr/>
        </p:nvGrpSpPr>
        <p:grpSpPr>
          <a:xfrm>
            <a:off x="2340000" y="2243160"/>
            <a:ext cx="4176720" cy="2303280"/>
            <a:chOff x="2340000" y="2243160"/>
            <a:chExt cx="4176720" cy="2303280"/>
          </a:xfrm>
        </p:grpSpPr>
        <p:pic>
          <p:nvPicPr>
            <p:cNvPr id="473" name="Picture 25" descr="americas4"/>
            <p:cNvPicPr/>
            <p:nvPr/>
          </p:nvPicPr>
          <p:blipFill>
            <a:blip r:embed="rId9"/>
            <a:stretch/>
          </p:blipFill>
          <p:spPr>
            <a:xfrm>
              <a:off x="2916360" y="2523960"/>
              <a:ext cx="3024000" cy="18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Oval 26"/>
            <p:cNvSpPr/>
            <p:nvPr/>
          </p:nvSpPr>
          <p:spPr>
            <a:xfrm>
              <a:off x="2340000" y="2243160"/>
              <a:ext cx="4176720" cy="23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5" name="Text Box 27"/>
            <p:cNvSpPr/>
            <p:nvPr/>
          </p:nvSpPr>
          <p:spPr>
            <a:xfrm>
              <a:off x="2576160" y="2892240"/>
              <a:ext cx="365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pt-BR" sz="6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6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6" name="CaixaDeTexto 31"/>
          <p:cNvSpPr/>
          <p:nvPr/>
        </p:nvSpPr>
        <p:spPr>
          <a:xfrm>
            <a:off x="42876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CaixaDeTexto 32"/>
          <p:cNvSpPr/>
          <p:nvPr/>
        </p:nvSpPr>
        <p:spPr>
          <a:xfrm>
            <a:off x="6643800" y="192888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CaixaDeTexto 33"/>
          <p:cNvSpPr/>
          <p:nvPr/>
        </p:nvSpPr>
        <p:spPr>
          <a:xfrm>
            <a:off x="214200" y="63151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CaixaDeTexto 34"/>
          <p:cNvSpPr/>
          <p:nvPr/>
        </p:nvSpPr>
        <p:spPr>
          <a:xfrm>
            <a:off x="6357960" y="6215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ia@uol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CaixaDeTexto 36"/>
          <p:cNvSpPr/>
          <p:nvPr/>
        </p:nvSpPr>
        <p:spPr>
          <a:xfrm>
            <a:off x="5143680" y="28584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é em casa..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81" name="Picture 19" descr="computador2"/>
          <p:cNvPicPr/>
          <p:nvPr/>
        </p:nvPicPr>
        <p:blipFill>
          <a:blip r:embed="rId10"/>
          <a:stretch/>
        </p:blipFill>
        <p:spPr>
          <a:xfrm>
            <a:off x="3897360" y="466560"/>
            <a:ext cx="1125360" cy="1009800"/>
          </a:xfrm>
          <a:prstGeom prst="rect">
            <a:avLst/>
          </a:prstGeom>
          <a:ln w="0">
            <a:noFill/>
          </a:ln>
        </p:spPr>
      </p:pic>
      <p:sp>
        <p:nvSpPr>
          <p:cNvPr id="482" name="CaixaDeTexto 39"/>
          <p:cNvSpPr/>
          <p:nvPr/>
        </p:nvSpPr>
        <p:spPr>
          <a:xfrm>
            <a:off x="5000760" y="1214280"/>
            <a:ext cx="25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e@terra.com.b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CaixaDeTexto 40"/>
          <p:cNvSpPr/>
          <p:nvPr/>
        </p:nvSpPr>
        <p:spPr>
          <a:xfrm>
            <a:off x="2000160" y="53578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é no trabalho..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 flipH="1" flipV="1">
            <a:off x="1379520" y="4142880"/>
            <a:ext cx="263520" cy="10004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Line 3"/>
          <p:cNvSpPr/>
          <p:nvPr/>
        </p:nvSpPr>
        <p:spPr>
          <a:xfrm flipH="1">
            <a:off x="1714680" y="1143000"/>
            <a:ext cx="2286000" cy="15001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4760" y="3808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pt-BR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" name="Se contar ninguem acredita.wmv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spam"/>
          <p:cNvPicPr/>
          <p:nvPr/>
        </p:nvPicPr>
        <p:blipFill>
          <a:blip r:embed="rId1"/>
          <a:stretch/>
        </p:blipFill>
        <p:spPr>
          <a:xfrm>
            <a:off x="1428840" y="214200"/>
            <a:ext cx="64292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tajkep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27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ff3300"/>
                </a:solidFill>
                <a:latin typeface="Arial"/>
              </a:rPr>
              <a:t>Hoax</a:t>
            </a:r>
            <a:endParaRPr b="1" i="1" lang="en-US" sz="10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tajkep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57120" y="2201760"/>
            <a:ext cx="82789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Segurança</a:t>
            </a:r>
            <a:br>
              <a:rPr sz="6000"/>
            </a:b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na red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CaixaDeTexto 10"/>
          <p:cNvSpPr/>
          <p:nvPr/>
        </p:nvSpPr>
        <p:spPr>
          <a:xfrm>
            <a:off x="5072040" y="4500720"/>
            <a:ext cx="36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Vír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Phising Sca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tajkep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6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642960" y="1844640"/>
            <a:ext cx="774396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Phishing Scam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rdok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357120" y="2357280"/>
            <a:ext cx="82789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E-mails corporativo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CaixaDeTexto 10"/>
          <p:cNvSpPr/>
          <p:nvPr/>
        </p:nvSpPr>
        <p:spPr>
          <a:xfrm>
            <a:off x="1928880" y="414324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Mais um crachá para os colaborado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tajkep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6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743960" cy="27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Vamos ao webmail da Pax Real…</a:t>
            </a:r>
            <a:endParaRPr b="1" i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7" descr="tajkep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609480" y="2133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Os slides dest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 e de outras palestras </a:t>
            </a:r>
            <a:r>
              <a:rPr b="1" lang="pt-BR" sz="4000" spc="-1" strike="noStrike">
                <a:solidFill>
                  <a:srgbClr val="cc3300"/>
                </a:solidFill>
                <a:latin typeface="Arial"/>
              </a:rPr>
              <a:t>estão disponíveis 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60948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www.</a:t>
            </a: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CidCastello</a:t>
            </a: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.com.br/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lestra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5"/>
          <p:cNvSpPr/>
          <p:nvPr/>
        </p:nvSpPr>
        <p:spPr>
          <a:xfrm>
            <a:off x="1066680" y="4419720"/>
            <a:ext cx="7467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75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75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4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duvid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4"/>
          <p:cNvSpPr/>
          <p:nvPr/>
        </p:nvSpPr>
        <p:spPr>
          <a:xfrm>
            <a:off x="762120" y="609480"/>
            <a:ext cx="7696080" cy="563904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971800" y="212760"/>
            <a:ext cx="3124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40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698400" y="182880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-mail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rcRect l="0" t="0" r="0" b="3710"/>
          <a:stretch/>
        </p:blipFill>
        <p:spPr>
          <a:xfrm>
            <a:off x="7372440" y="151452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4"/>
          <p:cNvSpPr/>
          <p:nvPr/>
        </p:nvSpPr>
        <p:spPr>
          <a:xfrm>
            <a:off x="609480" y="30492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5"/>
          <p:cNvSpPr/>
          <p:nvPr/>
        </p:nvSpPr>
        <p:spPr>
          <a:xfrm>
            <a:off x="2610000" y="2884320"/>
            <a:ext cx="441936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"/>
          <p:cNvSpPr/>
          <p:nvPr/>
        </p:nvSpPr>
        <p:spPr>
          <a:xfrm>
            <a:off x="2266920" y="2351160"/>
            <a:ext cx="3657600" cy="0"/>
          </a:xfrm>
          <a:prstGeom prst="line">
            <a:avLst/>
          </a:prstGeom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717480" y="243828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Web sit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723960" y="3573360"/>
            <a:ext cx="730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Telefones: (+55 67) 9621-9000</a:t>
            </a:r>
            <a:br>
              <a:rPr sz="2600"/>
            </a:b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                            3027-7771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723960" y="4437000"/>
            <a:ext cx="701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Correspondências:</a:t>
            </a:r>
            <a:br>
              <a:rPr sz="2600"/>
            </a:b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     Caixa Postal 1 Agência Central</a:t>
            </a:r>
            <a:br>
              <a:rPr sz="2600"/>
            </a:b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     CEP 79002-970</a:t>
            </a:r>
            <a:br>
              <a:rPr sz="2600"/>
            </a:b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       Campo Grande MS Brasil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7321680" y="1455840"/>
            <a:ext cx="1517400" cy="2133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219320" y="1066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iculista, palestrante e consultor especializado em Interne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Line 12"/>
          <p:cNvSpPr/>
          <p:nvPr/>
        </p:nvSpPr>
        <p:spPr>
          <a:xfrm>
            <a:off x="457200" y="624852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 flipV="1">
            <a:off x="457200" y="378000"/>
            <a:ext cx="0" cy="5867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>
            <a:off x="8077320" y="3581280"/>
            <a:ext cx="0" cy="2667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457200" y="399960"/>
            <a:ext cx="7620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8077320" y="396720"/>
            <a:ext cx="0" cy="1051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17"/>
          <p:cNvSpPr/>
          <p:nvPr/>
        </p:nvSpPr>
        <p:spPr>
          <a:xfrm>
            <a:off x="2176560" y="1798560"/>
            <a:ext cx="26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astell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4609440" y="17985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19"/>
          <p:cNvSpPr/>
          <p:nvPr/>
        </p:nvSpPr>
        <p:spPr>
          <a:xfrm>
            <a:off x="2833560" y="175248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@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0"/>
          <p:cNvSpPr/>
          <p:nvPr/>
        </p:nvSpPr>
        <p:spPr>
          <a:xfrm>
            <a:off x="2785320" y="2362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CidCastell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1"/>
          <p:cNvSpPr/>
          <p:nvPr/>
        </p:nvSpPr>
        <p:spPr>
          <a:xfrm>
            <a:off x="5650920" y="234936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com.b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2"/>
          <p:cNvSpPr/>
          <p:nvPr/>
        </p:nvSpPr>
        <p:spPr>
          <a:xfrm>
            <a:off x="2567880" y="23623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ww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Rectangle 24"/>
          <p:cNvSpPr/>
          <p:nvPr/>
        </p:nvSpPr>
        <p:spPr>
          <a:xfrm>
            <a:off x="684360" y="299412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SN: </a:t>
            </a:r>
            <a:r>
              <a:rPr b="1" lang="pt-BR" sz="3200" spc="-1" strike="noStrike" u="sng">
                <a:solidFill>
                  <a:srgbClr val="66ffff"/>
                </a:solidFill>
                <a:uFillTx/>
                <a:latin typeface="Times New Roman"/>
              </a:rPr>
              <a:t>Cid@Castello.com.b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75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325"/>
                            </p:stCondLst>
                            <p:childTnLst>
                              <p:par>
                                <p:cTn id="10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3" dur="75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8525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75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905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75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9875"/>
                            </p:stCondLst>
                            <p:childTnLst>
                              <p:par>
                                <p:cTn id="10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875"/>
                            </p:stCondLst>
                            <p:childTnLst>
                              <p:par>
                                <p:cTn id="10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2" dur="75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1400"/>
                            </p:stCondLst>
                            <p:childTnLst>
                              <p:par>
                                <p:cTn id="10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75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75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3325"/>
                            </p:stCondLst>
                            <p:childTnLst>
                              <p:par>
                                <p:cTn id="10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8" dur="75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625"/>
                            </p:stCondLst>
                            <p:childTnLst>
                              <p:par>
                                <p:cTn id="10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2" dur="75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4150"/>
                            </p:stCondLst>
                            <p:childTnLst>
                              <p:par>
                                <p:cTn id="10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465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75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375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75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9075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75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4850"/>
                            </p:stCondLst>
                            <p:childTnLst>
                              <p:par>
                                <p:cTn id="10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parceria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5"/>
          <p:cNvSpPr/>
          <p:nvPr/>
        </p:nvSpPr>
        <p:spPr>
          <a:xfrm>
            <a:off x="457200" y="2514600"/>
            <a:ext cx="8381880" cy="1523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190440" y="242244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000" spc="-1" strike="noStrike">
                <a:solidFill>
                  <a:srgbClr val="ff3300"/>
                </a:solidFill>
                <a:latin typeface="Times New Roman"/>
              </a:rPr>
              <a:t>Muito obrigado!</a:t>
            </a:r>
            <a:endParaRPr b="1" lang="en-US" sz="9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tajkep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785880" y="57168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Treinamento “in company”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para colaboradores da empresa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Pax Real do Brasi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35719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o utilizar o e-mai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m mais eficiência e eficá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99640" y="4754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Cid Castell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9640" y="5348160"/>
            <a:ext cx="40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66ccff"/>
                </a:solidFill>
                <a:latin typeface="Times New Roman"/>
              </a:rPr>
              <a:t>Cid@Castello.com.b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8580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030320" y="5857920"/>
            <a:ext cx="3124080" cy="0"/>
          </a:xfrm>
          <a:prstGeom prst="line">
            <a:avLst/>
          </a:prstGeom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71680" y="3084480"/>
            <a:ext cx="8072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orreio Eletrônico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Imagem 2" descr="Imagem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tajkep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00280" y="2666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i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562720" y="2666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00"/>
                </a:solidFill>
                <a:latin typeface="Times New Roman"/>
              </a:rPr>
              <a:t>.com.br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096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00"/>
                </a:solidFill>
                <a:latin typeface="Times New Roman"/>
              </a:rPr>
              <a:t>@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066680" y="3657600"/>
            <a:ext cx="7086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8" descr="maozinha2"/>
          <p:cNvPicPr/>
          <p:nvPr/>
        </p:nvPicPr>
        <p:blipFill>
          <a:blip r:embed="rId2"/>
          <a:stretch/>
        </p:blipFill>
        <p:spPr>
          <a:xfrm>
            <a:off x="3851280" y="3716280"/>
            <a:ext cx="1101600" cy="1224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773440" y="26686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Castello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25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25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tajkep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8080" y="417240"/>
            <a:ext cx="7932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Fluxo de informações</a:t>
            </a:r>
            <a:endParaRPr b="1" i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8440" y="2313000"/>
            <a:ext cx="8256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ganizaçã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étod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iplin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ajkep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57120" y="2357280"/>
            <a:ext cx="82789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Organização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CaixaDeTexto 10"/>
          <p:cNvSpPr/>
          <p:nvPr/>
        </p:nvSpPr>
        <p:spPr>
          <a:xfrm>
            <a:off x="1928880" y="414324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Um lugar para cada coisa;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cada coisa no seu lug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ajkep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57120" y="2357280"/>
            <a:ext cx="82789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Método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CaixaDeTexto 10"/>
          <p:cNvSpPr/>
          <p:nvPr/>
        </p:nvSpPr>
        <p:spPr>
          <a:xfrm>
            <a:off x="1928880" y="414324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Saber como fazer;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fazer como se sab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tajkep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00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85800" y="6324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Copyright © 2008  C&amp;Cia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. Todos os direitos reservados. </a:t>
            </a:r>
            <a:r>
              <a:rPr b="0" i="1" lang="pt-BR" sz="12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57120" y="2357280"/>
            <a:ext cx="82789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Disciplina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CaixaDeTexto 10"/>
          <p:cNvSpPr/>
          <p:nvPr/>
        </p:nvSpPr>
        <p:spPr>
          <a:xfrm>
            <a:off x="1928880" y="414324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Fazer o que deve ser feit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8:23:18Z</dcterms:created>
  <dc:creator>Cid Castello</dc:creator>
  <dc:description/>
  <dc:language>en-US</dc:language>
  <cp:lastModifiedBy>Cid Castello</cp:lastModifiedBy>
  <dcterms:modified xsi:type="dcterms:W3CDTF">2008-09-06T02:09:14Z</dcterms:modified>
  <cp:revision>1230</cp:revision>
  <dc:subject/>
  <dc:title>Apresentação do PowerPoint</dc:title>
</cp:coreProperties>
</file>